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9EE0-DC7A-4907-A41E-C847B939E0F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BAB5-1430-4A0D-BE32-FAFD8445B95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4872-0AD4-4E4D-8D5F-A749F9A6D10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25360" y="6843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B49EB-F181-4EFE-AF11-4344F1E58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7AF02-DAE1-4D5D-845D-35016430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0325D-4263-4CA2-88C1-8B2AC14B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BDDB1-F7E6-4131-9FE1-F467DCC85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8AED9-0920-46C9-9200-09C102D19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AB21D-610D-4BA9-A7D0-4665E4618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E0AB2-856D-44A3-B393-11DBC8F5F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FE57A-B8B9-4F9E-AFA1-A1C74C26D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1BB07-76C1-4933-B059-EA6E7C61C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B469B-D3B2-4218-BCAE-ED744A32F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A2827-B115-46F7-8C66-BB2F3F66E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1D49A-6404-4822-9F67-C39F729CA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CDBC5-A887-46D4-AC09-12B6334CC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678BF-2A96-46F2-859F-ED77F3740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57E3-5ECB-45A0-91ED-10826B60A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05F26-218C-4C1D-A9BC-BAEB88546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7DEE5-75A0-43BD-A2B9-30E94DF6F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0AE1CA-769F-4293-88F8-FD720B07DA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95AA2-CB74-4BEA-AE8E-830800231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D5974-452C-4C39-BDC2-A421BF4CC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5A2AC-B1CC-4DB8-958C-063C937BB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E822C-1FEE-4EEA-B664-93C0A436E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7542-CD05-4E6D-9EF6-609D219B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B3299-81CC-4E49-83AF-603FC824C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9E534-BABF-4D85-A3B7-90868BEA8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25216-E2BE-46A8-9B05-635CC5E8E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75D8A-B019-4E06-8C71-60E278334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DD6F6A-A6A8-4A79-A712-C2D9D5E2A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58A0A-68CE-48FE-A07C-536996BF14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CDA21-19AE-4CEE-8577-F944505EF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5194C-8F8B-4F56-8088-F87650DCC5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816B77-2EC7-4B02-B23E-51AA6FCF2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A4A48-8BCB-4139-A969-8E9E555E4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974E-F070-4009-8D4F-6C380F3B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C71D72-90CC-4821-9C4D-93CCFA1A9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27385-F019-447C-923C-055A67FBD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5F0C2-B823-4C17-A1F4-4B2587937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EFB62-88D3-4A61-82B6-D28FACD66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A7F75-B736-4BC5-BEFB-8D27E80E5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83C6B-FFC3-48D6-9B69-1EE2EF859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DCF18-7430-4DD3-A489-8FF0A7476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6ACF3E-AB2B-4764-8FFE-A36EC13B07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299F01-36A1-4EC0-8A5D-855B501743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2D5DF-8D9C-455A-9952-5D7CF10A7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A2DA4-BAD3-4578-80C1-991B96635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27B6F-6989-49EB-9385-B0AE889EA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65FA-0ACC-422F-93AD-17370FDB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8873-E75B-4B95-9E1E-7DD779369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5065-DC4F-43C1-B2C1-8CEDBC6F5C9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9F5C-785E-4309-8F71-2598C2FD0E1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E330-E17E-4F64-949F-710A29D9498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3FE3-9A1E-45B5-B2FF-9D5B24BEDEA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0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0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20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71680" y="1571760"/>
            <a:ext cx="816444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0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250920" y="765000"/>
          <a:ext cx="8642160" cy="6255000"/>
        </p:xfrm>
        <a:graphic>
          <a:graphicData uri="http://schemas.openxmlformats.org/drawingml/2006/table">
            <a:tbl>
              <a:tblPr/>
              <a:tblGrid>
                <a:gridCol w="1441440"/>
                <a:gridCol w="3959280"/>
                <a:gridCol w="1152360"/>
                <a:gridCol w="1076400"/>
                <a:gridCol w="1012680"/>
              </a:tblGrid>
              <a:tr h="639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0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0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69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96,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43,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6,7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83,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46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3,7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9,5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19,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7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6,7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9,2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4,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6,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8,51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2,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24,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32,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8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51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478,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8,6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410,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410,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8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8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6,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6,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94,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6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2,7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20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поступления</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20 год</a:t>
            </a:r>
            <a:endParaRPr b="1" lang="en-US" sz="4000" spc="-1" strike="noStrike">
              <a:solidFill>
                <a:srgbClr val="feec94"/>
              </a:solidFill>
              <a:latin typeface="Times New Roman"/>
            </a:endParaRPr>
          </a:p>
        </p:txBody>
      </p:sp>
      <p:sp>
        <p:nvSpPr>
          <p:cNvPr id="287"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4094,6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3722,2 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90,91%</a:t>
            </a:r>
            <a:endParaRPr b="0" lang="en-US" sz="3200" spc="-1" strike="noStrike">
              <a:solidFill>
                <a:srgbClr val="ffffff"/>
              </a:solidFill>
              <a:latin typeface="Times New Roman"/>
            </a:endParaRPr>
          </a:p>
        </p:txBody>
      </p:sp>
      <p:pic>
        <p:nvPicPr>
          <p:cNvPr id="288"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2"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4"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20 году по расходам</a:t>
            </a:r>
            <a:endParaRPr b="1" lang="en-US" sz="2400" spc="-1" strike="noStrike">
              <a:solidFill>
                <a:srgbClr val="feec94"/>
              </a:solidFill>
              <a:latin typeface="Times New Roman"/>
            </a:endParaRPr>
          </a:p>
        </p:txBody>
      </p:sp>
      <p:graphicFrame>
        <p:nvGraphicFramePr>
          <p:cNvPr id="296"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0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0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58,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305,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6,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6,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8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605,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68,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94,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0,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6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6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2,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094,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722,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0г  </a:t>
            </a:r>
            <a:br>
              <a:rPr sz="2400"/>
            </a:br>
            <a:endParaRPr b="1" lang="en-US" sz="2400" spc="-1" strike="noStrike">
              <a:solidFill>
                <a:srgbClr val="feec94"/>
              </a:solidFill>
              <a:latin typeface="Times New Roman"/>
            </a:endParaRPr>
          </a:p>
        </p:txBody>
      </p:sp>
      <p:graphicFrame>
        <p:nvGraphicFramePr>
          <p:cNvPr id="298"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1,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6,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20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0"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943,9</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722,2</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1,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1,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1,7</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20 год  сформирован  на основе основных направлений бюджетной и налоговой политики Борковского сельсовета  Суджанского района на 2020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3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0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0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20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20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20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20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1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62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943,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46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478,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722,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2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00040" y="150012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Lenovo</cp:lastModifiedBy>
  <dcterms:modified xsi:type="dcterms:W3CDTF">2022-03-01T06:54:41Z</dcterms:modified>
  <cp:revision>310</cp:revision>
  <dc:subject/>
  <dc:title>Финансовое управление Администрации Каменского района</dc:title>
</cp:coreProperties>
</file>