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92566-70FE-4830-A0F9-609B6A3A75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3A2E2-1BA5-4BE8-8F6B-39A3813BCF0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C8F4-E235-443F-9007-ED29C31F7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B0B8-CFFB-45CE-BEBD-2C7CDA9EC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C66C-CC06-4DA3-9BF7-42F8D36CD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2EEE-0E65-4634-9738-55E906DC2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968ED-C426-4C7D-B941-2C952DBDC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E354C-6D4A-41D1-A148-E6AB2A343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7E229-AC3C-4317-8EFC-BDF68924A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4C12B-57F7-467F-9602-83D033330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917A1-6F56-4797-A9B6-BC7957FFA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F5D8E-F814-4E57-88F5-FCC131EC4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EF585-05A0-48F5-A150-3F1E8AAD7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4E05-C656-44C7-8D13-108E6279D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36063-4C5F-46E0-99E1-88F43AAB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A0767-26E0-4445-AF06-B5ED2D00B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1187F-4223-49C2-921B-36E27924C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CF8A4-9172-4296-8911-58B9B0EE7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14F2D-42AE-4989-8E47-F8A998399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DC6F-4120-4274-A2B8-B61089962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0DA8-C7BB-43C2-9B52-2AAFB7E8A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89AB-9AC6-4E8C-8D50-6F99A74D3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E9EE-D29D-469C-9E52-DFFE1A78F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8543-63CE-4C69-B5E0-7106048D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0C6A-11F3-44F2-B799-BF4E19C28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6695-4C13-43C8-B3CF-1F7ED037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FBD6A-10C9-459C-A047-D92FD08A0CA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2EEF3-D3BE-4822-9C11-D3A0B56CAE1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8076960" cy="91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25370"/>
                </a:solidFill>
                <a:latin typeface="Times New Roman"/>
              </a:rPr>
              <a:t>Администрация Борковского</a:t>
            </a:r>
            <a:br>
              <a:rPr sz="3200"/>
            </a:br>
            <a:r>
              <a:rPr b="1" lang="ru-RU" sz="3200" spc="-1" strike="noStrike">
                <a:solidFill>
                  <a:srgbClr val="025370"/>
                </a:solidFill>
                <a:latin typeface="Times New Roman"/>
              </a:rPr>
              <a:t> сельсовета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4797360"/>
            <a:ext cx="8642160" cy="1440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c6706"/>
                </a:solidFill>
                <a:latin typeface="Times New Roman"/>
              </a:rPr>
              <a:t>БЮДЖЕТ БОРКОВСКОГО СЕЛЬСОВЕТА СУДЖАНСКОГО  РАЙОН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c6706"/>
                </a:solidFill>
                <a:latin typeface="Times New Roman"/>
              </a:rPr>
              <a:t>НА 2018 ГОД И НА ПЛАНОВЫЙ ПЕРИОД 2019, 2020 ГОД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9" descr="i (1)"/>
          <p:cNvPicPr/>
          <p:nvPr/>
        </p:nvPicPr>
        <p:blipFill>
          <a:blip r:embed="rId1"/>
          <a:stretch/>
        </p:blipFill>
        <p:spPr>
          <a:xfrm>
            <a:off x="2843280" y="1773360"/>
            <a:ext cx="35290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Динамика безвозмездных поступлений бюджета Борковского сельсовета Суджанского района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3" name="Object 4" descr=""/>
          <p:cNvPicPr/>
          <p:nvPr/>
        </p:nvPicPr>
        <p:blipFill>
          <a:blip r:embed="rId1"/>
          <a:stretch/>
        </p:blipFill>
        <p:spPr>
          <a:xfrm>
            <a:off x="560520" y="1649520"/>
            <a:ext cx="8022960" cy="44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Динамика расходов бюджета Борковского сельсовета Суджанского района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5" name="Object 4" descr=""/>
          <p:cNvPicPr/>
          <p:nvPr/>
        </p:nvPicPr>
        <p:blipFill>
          <a:blip r:embed="rId1"/>
          <a:stretch/>
        </p:blipFill>
        <p:spPr>
          <a:xfrm>
            <a:off x="488880" y="1433520"/>
            <a:ext cx="8166240" cy="48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Запланированный объем расходов бюджета Борковского сельсовета Суджанского района в 2018 году составил 1562,7 тыс. рублей, из них: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79280" y="1844640"/>
          <a:ext cx="8713800" cy="3230640"/>
        </p:xfrm>
        <a:graphic>
          <a:graphicData uri="http://schemas.openxmlformats.org/drawingml/2006/table">
            <a:tbl>
              <a:tblPr/>
              <a:tblGrid>
                <a:gridCol w="8713800"/>
              </a:tblGrid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 – </a:t>
                      </a: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541,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Национальная оборона</a:t>
                      </a: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 – </a:t>
                      </a: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72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 – 339,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Культура, кинематография </a:t>
                      </a: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–</a:t>
                      </a: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 608,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Запланированный объем расходов бюджета Борковского сельсовета Суджанского района в 2019,2020 годах году составил: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395280" y="1989000"/>
          <a:ext cx="8497800" cy="2644920"/>
        </p:xfrm>
        <a:graphic>
          <a:graphicData uri="http://schemas.openxmlformats.org/drawingml/2006/table">
            <a:tbl>
              <a:tblPr/>
              <a:tblGrid>
                <a:gridCol w="4249800"/>
                <a:gridCol w="4248000"/>
              </a:tblGrid>
              <a:tr h="648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2019 год – 753,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2020 год- 767,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 – </a:t>
                      </a: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355,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 – </a:t>
                      </a: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378,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</a:tr>
              <a:tr h="647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Национальная оборона</a:t>
                      </a: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 – </a:t>
                      </a: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73,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Национальная оборона</a:t>
                      </a: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 – </a:t>
                      </a: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76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</a:tr>
              <a:tr h="647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Культура, кинематография </a:t>
                      </a: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–</a:t>
                      </a: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 325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Культура, кинематография </a:t>
                      </a: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–</a:t>
                      </a: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 313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Доля муниципальных программ в общем объеме расходов запланированных на реализацию муниципальных программ в 201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7</a:t>
            </a: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г  </a:t>
            </a:r>
            <a:br>
              <a:rPr sz="24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0" y="1197000"/>
          <a:ext cx="9144000" cy="4394160"/>
        </p:xfrm>
        <a:graphic>
          <a:graphicData uri="http://schemas.openxmlformats.org/drawingml/2006/table">
            <a:tbl>
              <a:tblPr/>
              <a:tblGrid>
                <a:gridCol w="6502320"/>
                <a:gridCol w="2641680"/>
              </a:tblGrid>
              <a:tr h="116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Наименование муниципальной программ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Доля в общем объеме расходов,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6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Защита населения и территории от чрезвычайных ситуаций, обеспечение пожарной безопасности и безопасности людей на водных объекта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0,03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Развитие культур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35,4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Развитие муниципальной служб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0,0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6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Обеспечение доступным и комфортным жильем и коммунальными услугами граждан в муниципальном образован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Доля муниципальных программ в общем объеме расходов запланированных на реализацию муниципальных программ в 2018, 2019 годовг  </a:t>
            </a:r>
            <a:br>
              <a:rPr sz="24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324000" y="1628640"/>
          <a:ext cx="8496000" cy="4686480"/>
        </p:xfrm>
        <a:graphic>
          <a:graphicData uri="http://schemas.openxmlformats.org/drawingml/2006/table">
            <a:tbl>
              <a:tblPr/>
              <a:tblGrid>
                <a:gridCol w="5543280"/>
                <a:gridCol w="1513080"/>
                <a:gridCol w="1439640"/>
              </a:tblGrid>
              <a:tr h="179496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Наименование муниципальной программ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Доля в общем объеме расходов, 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2018г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Доля в общем объеме расходов, 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2019г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Защита населения и территории от чрезвычайных ситуаций, обеспечение пожарной безопасности и безопасности людей на водных объекта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0,00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0,00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Развитие культур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35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35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Развитие муниципальной служб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0,03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0,03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Обеспечение доступным и комфортным жильем и коммунальными услугами граждан в муниципальном образован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0,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0,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445240" cy="626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Бюджет Борковского сельсовета Суджанского района на 2018 год и на плановый период 2019, 2020 годов   сформирован  на основе основных направлений бюджетной и налоговой политики Борковского сельсовета  Суджанского района на 2018 год и на плановый период 2019 – 2020 годов. Главной идеологией бюджетной политики традиционно остается улучшение условий жизни населения Борковского сельсовета, выполнение социальных обязательств перед гражданами, предоставление качественных муниципальных услуг на основе целей и задач, определенных указами Президента Российской Федерации и Стратегией социально-экономического развития Борковского сельсовета  на период до 2021 года.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496000" cy="6408720"/>
          </a:xfrm>
          <a:prstGeom prst="rect">
            <a:avLst/>
          </a:prstGeom>
          <a:solidFill>
            <a:srgbClr val="feec94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Oval 40"/>
          <p:cNvSpPr/>
          <p:nvPr/>
        </p:nvSpPr>
        <p:spPr>
          <a:xfrm>
            <a:off x="2771640" y="1628640"/>
            <a:ext cx="3095640" cy="3024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ы формирования бюджета Борковского  сельсовета  Суджанского района на 2018 год и на плановый период 2019, 2020 год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AutoShape 43"/>
          <p:cNvSpPr/>
          <p:nvPr/>
        </p:nvSpPr>
        <p:spPr>
          <a:xfrm>
            <a:off x="324000" y="333360"/>
            <a:ext cx="2879640" cy="1727280"/>
          </a:xfrm>
          <a:prstGeom prst="flowChartAlternateProcess">
            <a:avLst/>
          </a:prstGeom>
          <a:solidFill>
            <a:srgbClr val="0b5c6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Основные направления бюджетной и налоговой политики Курской области на 2018 год и на плановый период 2019, 2020 год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AutoShape 45"/>
          <p:cNvSpPr/>
          <p:nvPr/>
        </p:nvSpPr>
        <p:spPr>
          <a:xfrm>
            <a:off x="5435640" y="260280"/>
            <a:ext cx="3384360" cy="1728720"/>
          </a:xfrm>
          <a:prstGeom prst="flowChartAlternateProcess">
            <a:avLst/>
          </a:prstGeom>
          <a:solidFill>
            <a:srgbClr val="0b5c6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Основные направления бюджетной и налоговой политики Борковского сельсовета на 2018 год и на плановый период 2019, 2020 год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AutoShape 47"/>
          <p:cNvSpPr/>
          <p:nvPr/>
        </p:nvSpPr>
        <p:spPr>
          <a:xfrm>
            <a:off x="468360" y="3716280"/>
            <a:ext cx="2663640" cy="2233800"/>
          </a:xfrm>
          <a:prstGeom prst="flowChartAlternateProcess">
            <a:avLst/>
          </a:prstGeom>
          <a:solidFill>
            <a:srgbClr val="0b5c6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Прогноз социально-экономического развития Борковского сельсовета на 2018 год и на плановый период 2019, 2020 год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AutoShape 48"/>
          <p:cNvSpPr/>
          <p:nvPr/>
        </p:nvSpPr>
        <p:spPr>
          <a:xfrm>
            <a:off x="5940360" y="3645000"/>
            <a:ext cx="2160720" cy="2376360"/>
          </a:xfrm>
          <a:prstGeom prst="flowChartAlternateProcess">
            <a:avLst/>
          </a:prstGeom>
          <a:solidFill>
            <a:srgbClr val="0b5c6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Муниципальные программы Борковского сельсовет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AutoShape 50"/>
          <p:cNvSpPr/>
          <p:nvPr/>
        </p:nvSpPr>
        <p:spPr>
          <a:xfrm>
            <a:off x="1979640" y="2060640"/>
            <a:ext cx="792000" cy="1224000"/>
          </a:xfrm>
          <a:custGeom>
            <a:avLst/>
            <a:gdLst>
              <a:gd name="textAreaLeft" fmla="*/ 105840 w 792000"/>
              <a:gd name="textAreaRight" fmla="*/ 686160 w 792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AutoShape 51"/>
          <p:cNvSpPr/>
          <p:nvPr/>
        </p:nvSpPr>
        <p:spPr>
          <a:xfrm>
            <a:off x="2627280" y="4581360"/>
            <a:ext cx="1295280" cy="79236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AutoShape 57"/>
          <p:cNvSpPr/>
          <p:nvPr/>
        </p:nvSpPr>
        <p:spPr>
          <a:xfrm>
            <a:off x="5867280" y="1989000"/>
            <a:ext cx="1009800" cy="1295640"/>
          </a:xfrm>
          <a:custGeom>
            <a:avLst/>
            <a:gdLst>
              <a:gd name="textAreaLeft" fmla="*/ 135000 w 1009800"/>
              <a:gd name="textAreaRight" fmla="*/ 874800 w 1009800"/>
              <a:gd name="textAreaTop" fmla="*/ 226800 h 1295640"/>
              <a:gd name="textAreaBottom" fmla="*/ 93960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852151"/>
                <a:lnTo>
                  <a:pt x="6589" y="21240"/>
                </a:lnTo>
                <a:lnTo>
                  <a:pt x="0" y="17280"/>
                </a:lnTo>
                <a:lnTo>
                  <a:pt x="6589" y="12600"/>
                </a:lnTo>
                <a:lnTo>
                  <a:pt x="6589" y="14760"/>
                </a:lnTo>
                <a:arcTo wR="21600" hR="7560" stAng="2852151" swAng="-2494717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AutoShape 64"/>
          <p:cNvSpPr/>
          <p:nvPr/>
        </p:nvSpPr>
        <p:spPr>
          <a:xfrm rot="5400000">
            <a:off x="4812120" y="4269600"/>
            <a:ext cx="806760" cy="1430280"/>
          </a:xfrm>
          <a:custGeom>
            <a:avLst/>
            <a:gdLst>
              <a:gd name="textAreaLeft" fmla="*/ 108000 w 806760"/>
              <a:gd name="textAreaRight" fmla="*/ 698760 w 806760"/>
              <a:gd name="textAreaTop" fmla="*/ 250200 h 1430280"/>
              <a:gd name="textAreaBottom" fmla="*/ 1037160 h 1430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28"/>
              </a:rPr>
              <a:t>Бюджет Борковского сельсовета Суджанского района на 2018 год и на плановый период 2019, 2020 годов  направлен на выполнение следующих задач: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AutoShape 4"/>
          <p:cNvSpPr/>
          <p:nvPr/>
        </p:nvSpPr>
        <p:spPr>
          <a:xfrm>
            <a:off x="179280" y="1916280"/>
            <a:ext cx="8642520" cy="86508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еспечение устойчивости и сбалансированности бюджетной системы 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целях гарантированного исполнения действующих и принимаемы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сходных обязательст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AutoShape 6"/>
          <p:cNvSpPr/>
          <p:nvPr/>
        </p:nvSpPr>
        <p:spPr>
          <a:xfrm>
            <a:off x="179280" y="2997360"/>
            <a:ext cx="8713800" cy="86328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вышение эффективности бюджетной политики, в том числе за сче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оста эффективности бюджетных расход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AutoShape 7"/>
          <p:cNvSpPr/>
          <p:nvPr/>
        </p:nvSpPr>
        <p:spPr>
          <a:xfrm>
            <a:off x="179280" y="4941720"/>
            <a:ext cx="8713800" cy="648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вышение роли бюджетной политики для поддержки экономическог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ост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AutoShape 8"/>
          <p:cNvSpPr/>
          <p:nvPr/>
        </p:nvSpPr>
        <p:spPr>
          <a:xfrm>
            <a:off x="250920" y="4076640"/>
            <a:ext cx="8713800" cy="6476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ответствие финансовых возможностей Борковского сельсовет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лючевым направлениям развит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AutoShape 9"/>
          <p:cNvSpPr/>
          <p:nvPr/>
        </p:nvSpPr>
        <p:spPr>
          <a:xfrm>
            <a:off x="250920" y="5805360"/>
            <a:ext cx="8713800" cy="6480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вышение прозрачности и открытости бюджетного процесс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Основные параметры бюджета Борковского сельсовета Суджанского района на 2018 год и на плановый период 2019 – 2020 годов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24000" y="1413000"/>
          <a:ext cx="8496000" cy="4935240"/>
        </p:xfrm>
        <a:graphic>
          <a:graphicData uri="http://schemas.openxmlformats.org/drawingml/2006/table">
            <a:tbl>
              <a:tblPr/>
              <a:tblGrid>
                <a:gridCol w="2832120"/>
                <a:gridCol w="1414440"/>
                <a:gridCol w="2125440"/>
                <a:gridCol w="212400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2018г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2019г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2020г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76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Доходы бюджета, всег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1536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779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767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из них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</a:tr>
              <a:tr h="76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Налоговые и неналоговые доход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522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522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522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Безвозмездные поступл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1013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257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245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Расходы бюджета, всег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1562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753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767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Дефицит (-), профицит(+) бюдже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-26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26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Динамика доходов бюджета Борковского сельсовета  Суджанского  района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49" name="Object 6"/>
          <p:cNvGraphicFramePr/>
          <p:nvPr/>
        </p:nvGraphicFramePr>
        <p:xfrm>
          <a:off x="1258920" y="1413000"/>
          <a:ext cx="7165800" cy="181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413000"/>
                    <a:ext cx="7165800" cy="18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1" name="Object 4" descr=""/>
          <p:cNvPicPr/>
          <p:nvPr/>
        </p:nvPicPr>
        <p:blipFill>
          <a:blip r:embed="rId3"/>
          <a:stretch/>
        </p:blipFill>
        <p:spPr>
          <a:xfrm>
            <a:off x="480960" y="1857240"/>
            <a:ext cx="799308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26"/>
              </a:rPr>
              <a:t>Динамика налоговых и неналоговых доходов бюджета Борковского сельсовета </a:t>
            </a:r>
            <a:br>
              <a:rPr sz="2400"/>
            </a:br>
            <a:r>
              <a:rPr b="1" lang="ru-RU" sz="2400" spc="-1" strike="noStrike">
                <a:solidFill>
                  <a:srgbClr val="feec94"/>
                </a:solidFill>
                <a:latin typeface="26"/>
              </a:rPr>
              <a:t>Суджанского района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53" name="Object 4"/>
          <p:cNvGraphicFramePr/>
          <p:nvPr/>
        </p:nvGraphicFramePr>
        <p:xfrm>
          <a:off x="1187280" y="1989000"/>
          <a:ext cx="656460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989000"/>
                    <a:ext cx="6564600" cy="36576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55" name="Object 4" descr=""/>
          <p:cNvPicPr/>
          <p:nvPr/>
        </p:nvPicPr>
        <p:blipFill>
          <a:blip r:embed="rId3"/>
          <a:stretch/>
        </p:blipFill>
        <p:spPr>
          <a:xfrm>
            <a:off x="755640" y="1692360"/>
            <a:ext cx="74167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Запланированный объем налоговых и неналоговых доходов бюджета Борковского сельсовета</a:t>
            </a:r>
            <a:r>
              <a:rPr b="1" lang="ru-RU" sz="2400" spc="-1" strike="noStrike">
                <a:solidFill>
                  <a:srgbClr val="feec94"/>
                </a:solidFill>
                <a:latin typeface="26"/>
              </a:rPr>
              <a:t> </a:t>
            </a: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Суджанского района в 2018 году составил 522,8 тыс.рублей из них: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539640" y="1773360"/>
          <a:ext cx="8207640" cy="2881080"/>
        </p:xfrm>
        <a:graphic>
          <a:graphicData uri="http://schemas.openxmlformats.org/drawingml/2006/table">
            <a:tbl>
              <a:tblPr/>
              <a:tblGrid>
                <a:gridCol w="8207640"/>
              </a:tblGrid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Налоги на прибыль, доходы – 53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6a03"/>
                    </a:solidFill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Налоги на имущество – 469,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6a03"/>
                    </a:solidFill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6a03"/>
                    </a:solidFill>
                  </a:tcPr>
                </a:tc>
              </a:tr>
              <a:tr h="65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6a03"/>
                    </a:solidFill>
                  </a:tcPr>
                </a:tc>
              </a:tr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76a0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Запланированный объем налоговых и неналоговых доходов бюджета Борковского сельсовета Суджанского района в 2019, 2020 годах составил: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395280" y="2349360"/>
          <a:ext cx="8229600" cy="2320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73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201</a:t>
                      </a:r>
                      <a:r>
                        <a:rPr b="1" lang="ru-RU" sz="24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9</a:t>
                      </a:r>
                      <a:r>
                        <a:rPr b="1" lang="en-US" sz="24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год-522,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2020 год -522,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</a:tr>
              <a:tr h="774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Налоги на прибыль, доходы – 53,5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Налоги на прибыль, доходы –  53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</a:tr>
              <a:tr h="772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Налоги на имущество –  469,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Налоги на имущество –  469,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Структура налоговых  и неналоговых доходов бюджета Борковского сельсовета  Суджанского района в 2018 году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1" name="Object 6" descr=""/>
          <p:cNvPicPr/>
          <p:nvPr/>
        </p:nvPicPr>
        <p:blipFill>
          <a:blip r:embed="rId1"/>
          <a:stretch/>
        </p:blipFill>
        <p:spPr>
          <a:xfrm>
            <a:off x="250920" y="1506600"/>
            <a:ext cx="8569080" cy="5122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2T11:33:22Z</dcterms:created>
  <dc:creator>1</dc:creator>
  <dc:description/>
  <dc:language>en-US</dc:language>
  <cp:lastModifiedBy>borkiss</cp:lastModifiedBy>
  <cp:lastPrinted>2018-02-26T07:52:43Z</cp:lastPrinted>
  <dcterms:modified xsi:type="dcterms:W3CDTF">2018-02-26T08:07:00Z</dcterms:modified>
  <cp:revision>237</cp:revision>
  <dc:subject/>
  <dc:title>Финансовое управление Администрации Каменского района</dc:title>
</cp:coreProperties>
</file>