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7CAD-E5E1-40A5-9E7E-C7DF5E5560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948C-53E1-4CF4-9728-396F05CDB8C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B07B-66DC-47ED-8D3F-79648F975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89B6-97D3-4A09-BAB4-0D799622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CEB7-7B14-4F05-94DA-BFDBC3D8D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CD89-244D-42AE-B401-B41A18A0A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7FDF-50C9-49EF-AC50-76012518C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2BB3-1350-4FA8-8FCA-B81B45B6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C8BC-6ACA-49C7-B48D-A4D8A230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76F4-ED95-453E-B502-6CEB7ADD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C2CF-1E85-48D2-958D-C4F73E7F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F81E-4228-4E60-B26F-9112E1F8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D161-6C81-4178-BD77-944151D7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F0AD-0798-4C2D-BC7B-83FFB712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25B9-8E4B-4D96-878E-98DB7F67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C7A8-9D74-41B6-B4F9-CCB5E0B2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1559-9B13-4EFB-A1D7-00EAD9D1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A12D-C96D-43F4-9433-A1F4991C4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9CFA-7DE7-4406-B7C7-04DCA08EF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A7712-F4CA-48D2-B8F1-56D375D43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EF93E-CDA8-49BE-BCF8-4F64CB2F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45157-6CB8-4176-BFF7-EE0B0DAF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D90E5-CA60-45FF-9BB9-56399FFC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2BC5F-302C-4255-9D50-B68690D3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CFA8-6A6C-445A-ABC3-EB81BB01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EA5D4-32FB-433C-9511-CD955F1A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5465D-FDF9-4A16-8432-D5EF8014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EA598-5AF3-466D-BA7C-41B2E2C2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7695A-4980-4232-AF96-AAB18C8D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07749-1CEE-472F-9A25-FECE524A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EB23E-29C8-4384-9E26-33B2680E9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9A572-F89B-4234-96B2-F33962623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A3226-8139-4077-88CA-C43D67D38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3D43C-64FE-4855-94E0-94775D8A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038C0-8F04-42E3-8CC2-1D2948FD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E0A9-0DC4-4C93-AF13-539E2558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D024B-3724-43FE-AF27-91E840FA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4D4F0-95D3-4C75-9D41-A0FA723A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CF83E-82F8-44ED-8292-E7A25539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C4F15-B1AE-41F1-81DC-E54DA848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CACED-FCB9-433B-943D-1D0550BC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8877E-960C-4CFE-A013-15682E46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4B112-5BF5-4D49-BC57-A80E775E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C80FF-1EC9-47E6-A931-4A8D0EAA6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50661-A380-4A17-BA14-D0A2966E8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F450-78BD-4833-A6E2-55F52785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E721-C224-459D-B859-0A6D1B98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A302-5C7E-416A-9235-B1A5C8F1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6A12-1354-4D51-A0CB-6678C893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78D0-3822-4432-9A22-06CCB553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0905-5BFA-44BA-8156-1A510AD29C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4B37-A8D2-4D90-AEA2-E630C8F295C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B782-3360-4DEC-B39D-6982A734C0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8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5446-1AF3-4BAF-959D-6F31416A7D8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076960" cy="9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5370"/>
                </a:solidFill>
                <a:latin typeface="Times New Roman"/>
              </a:rPr>
              <a:t>Администрация Борковского</a:t>
            </a:r>
            <a:br>
              <a:rPr sz="3200"/>
            </a:br>
            <a:r>
              <a:rPr b="1" lang="ru-RU" sz="3200" spc="-1" strike="noStrike">
                <a:solidFill>
                  <a:srgbClr val="025370"/>
                </a:solidFill>
                <a:latin typeface="Times New Roman"/>
              </a:rPr>
              <a:t> сельсовета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50920" y="4797360"/>
            <a:ext cx="8642160" cy="1440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6706"/>
                </a:solidFill>
                <a:latin typeface="Times New Roman"/>
              </a:rPr>
              <a:t>БЮДЖЕТ БОРКОВСКОГО СЕЛЬСОВЕТА СУДЖАНСКОГО  РАЙОН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6706"/>
                </a:solidFill>
                <a:latin typeface="Times New Roman"/>
              </a:rPr>
              <a:t>НА 2020 ГОД И НА ПЛАНОВЫЙ ПЕРИОД 2021, 2022 ГОД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Picture 9" descr="i (1)"/>
          <p:cNvPicPr/>
          <p:nvPr/>
        </p:nvPicPr>
        <p:blipFill>
          <a:blip r:embed="rId1"/>
          <a:stretch/>
        </p:blipFill>
        <p:spPr>
          <a:xfrm>
            <a:off x="2843280" y="1773360"/>
            <a:ext cx="35290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Динамика безвозмездных поступлений бюджета Борковского сельсовета Суджанского района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83" name="Object 4" descr=""/>
          <p:cNvPicPr/>
          <p:nvPr/>
        </p:nvPicPr>
        <p:blipFill>
          <a:blip r:embed="rId1"/>
          <a:stretch/>
        </p:blipFill>
        <p:spPr>
          <a:xfrm>
            <a:off x="560520" y="1649520"/>
            <a:ext cx="802296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Динамика расходов бюджета Борковского сельсовета Суджанского района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85" name="Object 4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936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Запланированный объем расходов бюджета Борковского сельсовета Суджанского района в 2020году составил 2739,8 тыс. рублей, из них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79280" y="1844640"/>
          <a:ext cx="8713800" cy="3230640"/>
        </p:xfrm>
        <a:graphic>
          <a:graphicData uri="http://schemas.openxmlformats.org/drawingml/2006/table">
            <a:tbl>
              <a:tblPr/>
              <a:tblGrid>
                <a:gridCol w="8713800"/>
              </a:tblGrid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– </a:t>
                      </a: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794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циональная оборона</a:t>
                      </a: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– </a:t>
                      </a: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80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– 684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Культура, кинематография </a:t>
                      </a: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–</a:t>
                      </a: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985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циональная зкономика – 194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Запланированный объем расходов бюджета Борковского сельсовета Суджанского района в 2021,2022 году составил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95280" y="1989000"/>
          <a:ext cx="8497800" cy="3834000"/>
        </p:xfrm>
        <a:graphic>
          <a:graphicData uri="http://schemas.openxmlformats.org/drawingml/2006/table">
            <a:tbl>
              <a:tblPr/>
              <a:tblGrid>
                <a:gridCol w="4249800"/>
                <a:gridCol w="4248000"/>
              </a:tblGrid>
              <a:tr h="648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021 год – 869,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022 год- 871,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1188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Условно утвержденные расходы – 19,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Условно утвержденные расходы – 39,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702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– </a:t>
                      </a: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453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– </a:t>
                      </a: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459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циональная оборона</a:t>
                      </a: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– </a:t>
                      </a: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8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циональная оборона</a:t>
                      </a: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– </a:t>
                      </a: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82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Культура, кинематография </a:t>
                      </a: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–</a:t>
                      </a: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314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Культура, кинематография </a:t>
                      </a: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–</a:t>
                      </a: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289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Доля муниципальных программ в общем объеме расходов запланированных на реализацию муниципальных программ в 2020г  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0" y="1197000"/>
          <a:ext cx="9144000" cy="4394160"/>
        </p:xfrm>
        <a:graphic>
          <a:graphicData uri="http://schemas.openxmlformats.org/drawingml/2006/table">
            <a:tbl>
              <a:tblPr/>
              <a:tblGrid>
                <a:gridCol w="6502320"/>
                <a:gridCol w="2641680"/>
              </a:tblGrid>
              <a:tr h="116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именование муниципальной програм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Доля в общем объеме расходов,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Защита населения и территории от чрезвычайных ситуаций, обеспечение пожарной безопасности и безопасности людей на водных объект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Развитие культур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36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Развитие муниципальной служб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0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Обеспечение доступным и комфортным жильем и коммунальными услугами граждан в муниципальном образован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32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Доля муниципальных программ в общем объеме расходов запланированных на реализацию муниципальных программ в 2021, 2022 годовг  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4000" y="1628640"/>
          <a:ext cx="8496000" cy="4948200"/>
        </p:xfrm>
        <a:graphic>
          <a:graphicData uri="http://schemas.openxmlformats.org/drawingml/2006/table">
            <a:tbl>
              <a:tblPr/>
              <a:tblGrid>
                <a:gridCol w="5543280"/>
                <a:gridCol w="1490760"/>
                <a:gridCol w="1461960"/>
              </a:tblGrid>
              <a:tr h="15206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именование муниципальной програм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Доля в общем объеме расходов,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021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Доля в общем объеме расходов,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022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961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Защита населения и территории от чрезвычайных ситуаций, обеспечение пожарной безопасности и безопасности людей на водных объекта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677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Развитие культу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36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33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444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Развитие муниципальной служб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961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Обеспечение доступным и комфортным жильем и коммунальными услугами граждан в муниципальном образован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38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44524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Бюджет Борковского сельсовета Суджанского района на 2020 год и на плановый период 2021, 2022 годов   сформирован  на основе основных направлений бюджетной и налоговой политики Борковского сельсовета  Суджанского района на 2020 год и на плановый период 2021 – 2022 годов. Главной идеологией бюджетной политики традиционно остается улучшение условий жизни населения Борковского сельсовета, выполнение социальных обязательств перед гражданами, предоставление качественных муниципальных услуг на основе целей и задач, определенных указами Президента Российской Федерации и Стратегией социально-экономического развития Борковского сельсовета  на период до 2022 года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496000" cy="6408720"/>
          </a:xfrm>
          <a:prstGeom prst="rect">
            <a:avLst/>
          </a:prstGeom>
          <a:solidFill>
            <a:srgbClr val="feec94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Oval 40"/>
          <p:cNvSpPr/>
          <p:nvPr/>
        </p:nvSpPr>
        <p:spPr>
          <a:xfrm>
            <a:off x="2771640" y="1628640"/>
            <a:ext cx="3095640" cy="302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ы формирования бюджета Борковского сельсовета  Суджанского района на 2020 год и на плановый период 2021, 2022 год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AutoShape 43"/>
          <p:cNvSpPr/>
          <p:nvPr/>
        </p:nvSpPr>
        <p:spPr>
          <a:xfrm>
            <a:off x="324000" y="333360"/>
            <a:ext cx="2879640" cy="1727280"/>
          </a:xfrm>
          <a:prstGeom prst="flowChartAlternateProcess">
            <a:avLst/>
          </a:prstGeom>
          <a:solidFill>
            <a:srgbClr val="0b5c6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Основные направления бюджетной и налоговой политики Курской области на 2020 год и на плановый период 2021, 2022 год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AutoShape 45"/>
          <p:cNvSpPr/>
          <p:nvPr/>
        </p:nvSpPr>
        <p:spPr>
          <a:xfrm>
            <a:off x="5435640" y="260280"/>
            <a:ext cx="3384360" cy="1728720"/>
          </a:xfrm>
          <a:prstGeom prst="flowChartAlternateProcess">
            <a:avLst/>
          </a:prstGeom>
          <a:solidFill>
            <a:srgbClr val="0b5c6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Основные направления бюджетной и налоговой политики Борковского сельсовета на 2020 год и на плановый период 2021, 2022 год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AutoShape 47"/>
          <p:cNvSpPr/>
          <p:nvPr/>
        </p:nvSpPr>
        <p:spPr>
          <a:xfrm>
            <a:off x="468360" y="3716280"/>
            <a:ext cx="2663640" cy="2233800"/>
          </a:xfrm>
          <a:prstGeom prst="flowChartAlternateProcess">
            <a:avLst/>
          </a:prstGeom>
          <a:solidFill>
            <a:srgbClr val="0b5c6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Прогноз социально-экономического развития Борковского сельсовета на 2020 год и на плановый период 2021, 2022 год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AutoShape 48"/>
          <p:cNvSpPr/>
          <p:nvPr/>
        </p:nvSpPr>
        <p:spPr>
          <a:xfrm>
            <a:off x="5940360" y="3645000"/>
            <a:ext cx="2160720" cy="2376360"/>
          </a:xfrm>
          <a:prstGeom prst="flowChartAlternateProcess">
            <a:avLst/>
          </a:prstGeom>
          <a:solidFill>
            <a:srgbClr val="0b5c6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Муниципальные программы Борковского сельсовет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AutoShape 50"/>
          <p:cNvSpPr/>
          <p:nvPr/>
        </p:nvSpPr>
        <p:spPr>
          <a:xfrm>
            <a:off x="1979640" y="2060640"/>
            <a:ext cx="792000" cy="1224000"/>
          </a:xfrm>
          <a:custGeom>
            <a:avLst/>
            <a:gdLst>
              <a:gd name="textAreaLeft" fmla="*/ 105840 w 792000"/>
              <a:gd name="textAreaRight" fmla="*/ 686160 w 792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AutoShape 51"/>
          <p:cNvSpPr/>
          <p:nvPr/>
        </p:nvSpPr>
        <p:spPr>
          <a:xfrm>
            <a:off x="2627280" y="4581360"/>
            <a:ext cx="1295280" cy="79236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AutoShape 57"/>
          <p:cNvSpPr/>
          <p:nvPr/>
        </p:nvSpPr>
        <p:spPr>
          <a:xfrm>
            <a:off x="5867280" y="1989000"/>
            <a:ext cx="1009800" cy="1295640"/>
          </a:xfrm>
          <a:custGeom>
            <a:avLst/>
            <a:gdLst>
              <a:gd name="textAreaLeft" fmla="*/ 135000 w 1009800"/>
              <a:gd name="textAreaRight" fmla="*/ 874800 w 1009800"/>
              <a:gd name="textAreaTop" fmla="*/ 226800 h 1295640"/>
              <a:gd name="textAreaBottom" fmla="*/ 9396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852151"/>
                <a:lnTo>
                  <a:pt x="6589" y="21240"/>
                </a:lnTo>
                <a:lnTo>
                  <a:pt x="0" y="17280"/>
                </a:lnTo>
                <a:lnTo>
                  <a:pt x="6589" y="12600"/>
                </a:lnTo>
                <a:lnTo>
                  <a:pt x="6589" y="14760"/>
                </a:lnTo>
                <a:arcTo wR="21600" hR="7560" stAng="2852151" swAng="-2494717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AutoShape 64"/>
          <p:cNvSpPr/>
          <p:nvPr/>
        </p:nvSpPr>
        <p:spPr>
          <a:xfrm rot="5400000">
            <a:off x="4812120" y="4269600"/>
            <a:ext cx="806760" cy="1430280"/>
          </a:xfrm>
          <a:custGeom>
            <a:avLst/>
            <a:gdLst>
              <a:gd name="textAreaLeft" fmla="*/ 108000 w 806760"/>
              <a:gd name="textAreaRight" fmla="*/ 698760 w 806760"/>
              <a:gd name="textAreaTop" fmla="*/ 250200 h 1430280"/>
              <a:gd name="textAreaBottom" fmla="*/ 1037160 h 143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28"/>
              </a:rPr>
              <a:t>Бюджет Борковского сельсовета Суджанского района на 2020 год и на плановый период 2021, 2022 годов  направлен на выполнение следующих задач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1" name="AutoShape 4"/>
          <p:cNvSpPr/>
          <p:nvPr/>
        </p:nvSpPr>
        <p:spPr>
          <a:xfrm>
            <a:off x="179280" y="1916280"/>
            <a:ext cx="8642520" cy="8650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еспечение устойчивости и сбалансированности бюджетной системы 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елях гарантированного исполнения действующих и принимаемы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ходных обязательст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AutoShape 6"/>
          <p:cNvSpPr/>
          <p:nvPr/>
        </p:nvSpPr>
        <p:spPr>
          <a:xfrm>
            <a:off x="179280" y="2997360"/>
            <a:ext cx="8713800" cy="86328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ышение эффективности бюджетной политики, в том числе за сч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ста эффективности бюджетных расход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AutoShape 7"/>
          <p:cNvSpPr/>
          <p:nvPr/>
        </p:nvSpPr>
        <p:spPr>
          <a:xfrm>
            <a:off x="179280" y="4941720"/>
            <a:ext cx="8713800" cy="648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ышение роли бюджетной политики для поддержки экономическог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с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AutoShape 8"/>
          <p:cNvSpPr/>
          <p:nvPr/>
        </p:nvSpPr>
        <p:spPr>
          <a:xfrm>
            <a:off x="250920" y="4076640"/>
            <a:ext cx="8713800" cy="647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ответствие финансовых возможностей Борковского сельсове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лючевым направлениям развит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AutoShape 9"/>
          <p:cNvSpPr/>
          <p:nvPr/>
        </p:nvSpPr>
        <p:spPr>
          <a:xfrm>
            <a:off x="250920" y="5805360"/>
            <a:ext cx="8713800" cy="6480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ышение прозрачности и открытости бюджетного процесс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Основные параметры бюджета Борковского сельсовета Суджанского района на 2020 год и на плановый период 2021– 2022 годов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324000" y="1413000"/>
          <a:ext cx="8496000" cy="4935240"/>
        </p:xfrm>
        <a:graphic>
          <a:graphicData uri="http://schemas.openxmlformats.org/drawingml/2006/table">
            <a:tbl>
              <a:tblPr/>
              <a:tblGrid>
                <a:gridCol w="2832120"/>
                <a:gridCol w="1414440"/>
                <a:gridCol w="2125440"/>
                <a:gridCol w="21240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020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021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022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76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Доходы бюджета, все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739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869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871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из них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76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логовые и неналоговые дох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518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519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519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Безвозмездные поступл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220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35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351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Расходы бюджета, все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739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869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871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Дефицит (-), профицит(+) бюдже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Динамика доходов бюджета Борковского сельсовета  Суджанского  района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69" name="Object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7165800" cy="1817640"/>
          </a:xfrm>
          <a:prstGeom prst="rect">
            <a:avLst/>
          </a:prstGeom>
          <a:ln w="0">
            <a:noFill/>
          </a:ln>
        </p:spPr>
      </p:pic>
      <p:pic>
        <p:nvPicPr>
          <p:cNvPr id="270" name="Object 4" descr=""/>
          <p:cNvPicPr/>
          <p:nvPr/>
        </p:nvPicPr>
        <p:blipFill>
          <a:blip r:embed="rId2"/>
          <a:stretch/>
        </p:blipFill>
        <p:spPr>
          <a:xfrm>
            <a:off x="480960" y="1933560"/>
            <a:ext cx="799308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26"/>
              </a:rPr>
              <a:t>Динамика налоговых и неналоговых доходов бюджета Борковского сельсовета 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26"/>
              </a:rPr>
              <a:t>Суджанского района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72" name="Object 4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6564600" cy="3657600"/>
          </a:xfrm>
          <a:prstGeom prst="rect">
            <a:avLst/>
          </a:prstGeom>
          <a:ln w="0">
            <a:noFill/>
          </a:ln>
        </p:spPr>
      </p:pic>
      <p:pic>
        <p:nvPicPr>
          <p:cNvPr id="273" name="Object 4" descr=""/>
          <p:cNvPicPr/>
          <p:nvPr/>
        </p:nvPicPr>
        <p:blipFill>
          <a:blip r:embed="rId2"/>
          <a:stretch/>
        </p:blipFill>
        <p:spPr>
          <a:xfrm>
            <a:off x="755640" y="1692360"/>
            <a:ext cx="7416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Запланированный объем налоговых и неналоговых доходов бюджета Борковского сельсовета</a:t>
            </a:r>
            <a:r>
              <a:rPr b="1" lang="ru-RU" sz="2400" spc="-1" strike="noStrike">
                <a:solidFill>
                  <a:srgbClr val="feec94"/>
                </a:solidFill>
                <a:latin typeface="26"/>
              </a:rPr>
              <a:t> 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Суджанского района в 2020 году составил 518,9 тыс.рублей из них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539640" y="1773360"/>
          <a:ext cx="8207640" cy="2881080"/>
        </p:xfrm>
        <a:graphic>
          <a:graphicData uri="http://schemas.openxmlformats.org/drawingml/2006/table">
            <a:tbl>
              <a:tblPr/>
              <a:tblGrid>
                <a:gridCol w="8207640"/>
              </a:tblGrid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логи на прибыль, доходы – 39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6a03"/>
                    </a:solidFill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логи на имущество – 419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6a03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Доходы от использования имущества-59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6a03"/>
                    </a:solidFill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6a03"/>
                    </a:solidFill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76a0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Запланированный объем налоговых и неналоговых доходов бюджета Борковского сельсовета Суджанского района в 2021, 2022 годах составил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395280" y="2349360"/>
          <a:ext cx="8229600" cy="3387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72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1год-519,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022 год -519,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774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логи на прибыль, доходы – 39,7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логи на прибыль, доходы –  39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772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логи на имущество –  419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Налоги на имущество –  419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1069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Доходы от использования имущества-59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Доходы от использования имущества-59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Структура налоговых  и неналоговых доходов бюджета Борковского сельсовета  Суджанского района в 2020 году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79" name="Object 6" descr=""/>
          <p:cNvPicPr/>
          <p:nvPr/>
        </p:nvPicPr>
        <p:blipFill>
          <a:blip r:embed="rId1"/>
          <a:stretch/>
        </p:blipFill>
        <p:spPr>
          <a:xfrm>
            <a:off x="272880" y="1074600"/>
            <a:ext cx="8598240" cy="529596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7"/>
          <p:cNvSpPr/>
          <p:nvPr/>
        </p:nvSpPr>
        <p:spPr>
          <a:xfrm>
            <a:off x="2484360" y="1771560"/>
            <a:ext cx="22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ходы от использования имущества 2,2%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Прямая соединительная линия 7"/>
          <p:cNvSpPr/>
          <p:nvPr/>
        </p:nvSpPr>
        <p:spPr>
          <a:xfrm flipH="1" flipV="1">
            <a:off x="4066920" y="2079720"/>
            <a:ext cx="649080" cy="1278000"/>
          </a:xfrm>
          <a:prstGeom prst="line">
            <a:avLst/>
          </a:prstGeom>
          <a:ln w="9360">
            <a:solidFill>
              <a:srgbClr val="ff9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2T11:33:22Z</dcterms:created>
  <dc:creator>1</dc:creator>
  <dc:description/>
  <dc:language>en-US</dc:language>
  <cp:lastModifiedBy>borkiss</cp:lastModifiedBy>
  <cp:lastPrinted>2018-02-26T07:52:43Z</cp:lastPrinted>
  <dcterms:modified xsi:type="dcterms:W3CDTF">2019-12-30T08:50:05Z</dcterms:modified>
  <cp:revision>287</cp:revision>
  <dc:subject/>
  <dc:title>Финансовое управление Администрации Каменского района</dc:title>
</cp:coreProperties>
</file>