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60D-DE65-4A35-8988-307646E64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05B-2BEE-4A81-9F1F-3351B66169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C89-1853-4791-9569-56C0DC01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EF8-5AE2-4152-8267-D37CD581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D37-F7B4-4BF0-9EB5-0850149C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794-E666-4155-AFB9-BD9AEA09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960-01FC-4651-852A-944E0918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5A6-6DA5-4500-86A6-747701B8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2F6-A07F-4596-8DEA-94E3EC3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259-C5DC-4EB9-B30C-4DB4F1E6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1433-5ACB-46E1-8080-01BB002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3B4C-1B6C-4207-A8A4-AD98BF8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B9AE-03FB-488D-A1F2-DA06B84F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CF9-5BC1-49F4-B68C-BC5816B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9CAD-9418-433E-B1EE-6C182FBB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21B2-50DF-439D-9CB7-B5016F5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F187-6A60-49D4-8A02-A6B6F6CE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4752-DB5E-49EA-9A32-DA8BFFA9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DC86-EE23-49AE-844C-0F85886E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EFF3-F727-47B2-80A8-3FC6BB99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AC87-54AB-4284-939F-F93B9C44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5DA8-07F0-4CF9-A41E-AA223760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6AEA-FB38-4CF3-BFAA-84735CAE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B233-D9B5-453F-911A-2C1399F8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2B1-8CB8-40DC-90CA-BBCC8995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DDD2-098E-444D-9CD7-673B0B7C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8644-D486-4082-88E7-AEE6A63B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95C9-BA77-48D3-851B-364A731A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7F7C-7D07-474B-B6B1-2DC2E93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1012-EDDC-4201-B5E1-EB1233DF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52DF-2B1C-441E-B17A-6182F97D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0D3A-1286-44D2-A8E5-CB7C2F32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D14D-7546-40C1-BF57-6B7A9353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6C10-CF56-446D-81E4-AEA971F8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3EB7-42AA-4257-A510-76C7449C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678-3486-44C3-AF1A-F5A408E1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956E-79EB-4597-BB8E-25B6282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29511-1BC6-4372-A969-0596C93F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6F03-D142-4505-B5FB-1B5B8DED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BBEF-2A8E-47E1-9FEC-4E57C75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BEEF-1689-4297-BB69-9F8FD2E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7B44-0684-45FC-86B7-419B608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7D97-63FA-4AFC-A29E-34C58242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AAAD-F853-46A5-AD09-B6577014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3C56-4ECC-415D-BB0B-656DD3FC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5C1-10D9-45B0-A12B-C06BBAE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E63-A669-4195-9C01-7FD0D4E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550-59D2-4229-879E-33D5F4F4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182-AFAF-44D9-A903-3700B80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F46-F497-45F2-B3EB-746C7FB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CFFD-87EA-4DCD-91A6-E7513E81C8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8E4-2C2E-44EC-8C8E-40BDBDE996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D61-FC44-456D-98EB-0F7BD37921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DB4-6F5C-48C2-9C9D-2FEA78E772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Администрация Борковского</a:t>
            </a:r>
            <a:br>
              <a:rPr sz="3200"/>
            </a:b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 сельсове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44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БЮДЖЕТ БОРКОВСКОГО СЕЛЬСОВЕТА СУДЖАН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НА 2019 ГОД И НА ПЛАНОВЫЙ ПЕРИОД 2020, 2021 Г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9" descr="i (1)"/>
          <p:cNvPicPr/>
          <p:nvPr/>
        </p:nvPicPr>
        <p:blipFill>
          <a:blip r:embed="rId1"/>
          <a:stretch/>
        </p:blipFill>
        <p:spPr>
          <a:xfrm>
            <a:off x="2843280" y="177336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инамика безвозмездных поступлений бюджета Борковского сельсовета 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3" name="Object 4" descr=""/>
          <p:cNvPicPr/>
          <p:nvPr/>
        </p:nvPicPr>
        <p:blipFill>
          <a:blip r:embed="rId1"/>
          <a:stretch/>
        </p:blipFill>
        <p:spPr>
          <a:xfrm>
            <a:off x="560520" y="1649520"/>
            <a:ext cx="80229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расходов бюджета Борковского сельсовета Суджанского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498600" y="1486080"/>
            <a:ext cx="79293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19 году составил 1985,5 тыс. рублей,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844640"/>
          <a:ext cx="8713800" cy="32306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6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7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10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1146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0,2021 году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989000"/>
          <a:ext cx="8497800" cy="383400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 год – 926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 год- 949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17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35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5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56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7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7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8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8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19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1197000"/>
          <a:ext cx="9144000" cy="4394160"/>
        </p:xfrm>
        <a:graphic>
          <a:graphicData uri="http://schemas.openxmlformats.org/drawingml/2006/table">
            <a:tbl>
              <a:tblPr/>
              <a:tblGrid>
                <a:gridCol w="6502320"/>
                <a:gridCol w="264168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7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0, 2021 годов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4000" y="1628640"/>
          <a:ext cx="8496000" cy="4948200"/>
        </p:xfrm>
        <a:graphic>
          <a:graphicData uri="http://schemas.openxmlformats.org/drawingml/2006/table">
            <a:tbl>
              <a:tblPr/>
              <a:tblGrid>
                <a:gridCol w="5543280"/>
                <a:gridCol w="1490760"/>
                <a:gridCol w="1461960"/>
              </a:tblGrid>
              <a:tr h="1520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8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45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Бюджет Борковского сельсовета Суджанского района на 2019 год и на плановый период 2020, 2021 годов   сформирован  на основе основных направлений бюджетной и налоговой политики Борковского сельсовета  Суджанского района на 2019 год и на плановый период 2020 – 2021 годов. Главной идеологией бюджетной политики традиционно остается улучшение условий жизни населения Борковского сельсовета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Борковского сельсовета  на период до 2022 год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2771640" y="1628640"/>
            <a:ext cx="3095640" cy="302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Борковского сельсовета  Суджанского района на 2019 год и на плановый период 2020, 2021 г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43"/>
          <p:cNvSpPr/>
          <p:nvPr/>
        </p:nvSpPr>
        <p:spPr>
          <a:xfrm>
            <a:off x="324000" y="333360"/>
            <a:ext cx="2879640" cy="172728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Курской области на 2019 год и на плановый период 2020, 2021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45"/>
          <p:cNvSpPr/>
          <p:nvPr/>
        </p:nvSpPr>
        <p:spPr>
          <a:xfrm>
            <a:off x="5435640" y="260280"/>
            <a:ext cx="3384360" cy="172872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Борковского сельсовета на 2019 год и на плановый период 2020, 2021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7"/>
          <p:cNvSpPr/>
          <p:nvPr/>
        </p:nvSpPr>
        <p:spPr>
          <a:xfrm>
            <a:off x="468360" y="3716280"/>
            <a:ext cx="2663640" cy="223380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гноз социально-экономического развития Борковского сельсовета на 2019 год и на плановый период 2020, 2021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48"/>
          <p:cNvSpPr/>
          <p:nvPr/>
        </p:nvSpPr>
        <p:spPr>
          <a:xfrm>
            <a:off x="5940360" y="3645000"/>
            <a:ext cx="2160720" cy="237636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униципальные программы Борковского сельсов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1979640" y="206064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2627280" y="4581360"/>
            <a:ext cx="1295280" cy="79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7"/>
          <p:cNvSpPr/>
          <p:nvPr/>
        </p:nvSpPr>
        <p:spPr>
          <a:xfrm>
            <a:off x="5867280" y="1989000"/>
            <a:ext cx="1009800" cy="129564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852151"/>
                <a:lnTo>
                  <a:pt x="6589" y="21240"/>
                </a:lnTo>
                <a:lnTo>
                  <a:pt x="0" y="17280"/>
                </a:lnTo>
                <a:lnTo>
                  <a:pt x="6589" y="12600"/>
                </a:lnTo>
                <a:lnTo>
                  <a:pt x="6589" y="14760"/>
                </a:lnTo>
                <a:arcTo wR="21600" hR="7560" stAng="2852151" swAng="-24947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64"/>
          <p:cNvSpPr/>
          <p:nvPr/>
        </p:nvSpPr>
        <p:spPr>
          <a:xfrm rot="5400000">
            <a:off x="4812120" y="426960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8"/>
              </a:rPr>
              <a:t>Бюджет Борковского сельсовета Суджанского района на 2019 год и на плановый период 2020, 2021 годов  направлен на выполнение следующих задач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7928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бюджетной политики, в том числе за с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 эффективности бюджетных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17928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роли бюджетной политики для поддержки экономи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финансовых возможностей Борковского сельсов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ючевым направлениям разви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Основные параметры бюджета Борковского сельсовета Суджанского района на 2019 год и на плановый период 2020– 2021 годов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413000"/>
          <a:ext cx="8496000" cy="4935240"/>
        </p:xfrm>
        <a:graphic>
          <a:graphicData uri="http://schemas.openxmlformats.org/drawingml/2006/table">
            <a:tbl>
              <a:tblPr/>
              <a:tblGrid>
                <a:gridCol w="2832120"/>
                <a:gridCol w="1414440"/>
                <a:gridCol w="21254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19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95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96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4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0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0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0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24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5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4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98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2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4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-3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доходов бюджета Борковского сельсовета  Суджанского 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9" name="Object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65800" cy="181764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4" descr=""/>
          <p:cNvPicPr/>
          <p:nvPr/>
        </p:nvPicPr>
        <p:blipFill>
          <a:blip r:embed="rId2"/>
          <a:stretch/>
        </p:blipFill>
        <p:spPr>
          <a:xfrm>
            <a:off x="480960" y="1933560"/>
            <a:ext cx="79930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Динамика налоговых и неналоговых доходов бюджета Борковского сельсовета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2" name="Object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6460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4" descr=""/>
          <p:cNvPicPr/>
          <p:nvPr/>
        </p:nvPicPr>
        <p:blipFill>
          <a:blip r:embed="rId2"/>
          <a:stretch/>
        </p:blipFill>
        <p:spPr>
          <a:xfrm>
            <a:off x="755640" y="1692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</a:t>
            </a: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уджанского района в 2019 году составил 701,2 тыс.рублей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9640" y="1773360"/>
          <a:ext cx="8207640" cy="2881080"/>
        </p:xfrm>
        <a:graphic>
          <a:graphicData uri="http://schemas.openxmlformats.org/drawingml/2006/table">
            <a:tbl>
              <a:tblPr/>
              <a:tblGrid>
                <a:gridCol w="8207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2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59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Доходы от использования имущества-8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Гуевского сельсовета Суджанского района в 2020, 2021 годах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2349360"/>
          <a:ext cx="8229600" cy="2320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год-593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 год -59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55,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 5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53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5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руктура налоговых  и неналоговых доходов бюджета Борковского сельсовета  Суджанского района в 2019 год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9" name="Object 6" descr=""/>
          <p:cNvPicPr/>
          <p:nvPr/>
        </p:nvPicPr>
        <p:blipFill>
          <a:blip r:embed="rId1"/>
          <a:stretch/>
        </p:blipFill>
        <p:spPr>
          <a:xfrm>
            <a:off x="455760" y="209520"/>
            <a:ext cx="8597880" cy="5295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7"/>
          <p:cNvSpPr/>
          <p:nvPr/>
        </p:nvSpPr>
        <p:spPr>
          <a:xfrm>
            <a:off x="2484360" y="177156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ходы от использования имущества 4,4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 flipH="1" flipV="1">
            <a:off x="4066920" y="2079720"/>
            <a:ext cx="649080" cy="127800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borkiss</cp:lastModifiedBy>
  <cp:lastPrinted>2018-02-26T07:52:43Z</cp:lastPrinted>
  <dcterms:modified xsi:type="dcterms:W3CDTF">2019-05-21T13:04:22Z</dcterms:modified>
  <cp:revision>275</cp:revision>
  <dc:subject/>
  <dc:title>Финансовое управление Администрации Каменского района</dc:title>
</cp:coreProperties>
</file>