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531D-3A4E-4090-951B-8800279E2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63EA-5B84-4168-B960-4A5E2CB305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038-040F-4D16-AC92-BA219396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5CE-D72B-460F-8CB3-3677D90B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B10-AF08-41E1-9D62-C126B955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65F-44B8-4A44-8204-A516A20B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4D7B-C4C0-4E51-8BCC-571D00EB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9515-7BCC-465D-8AB9-8E4D2FA0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8B7D-148F-48D7-BB58-503CCDE7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66E4-C5B1-4CA0-A224-78FFE826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3338-9249-4208-AB9E-B8387FB9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5453-3BAC-4E80-9916-571EE301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CC5D-A6C3-4721-B656-A39EE56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E08-60F0-4E4C-9CE3-EBD4E04E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E3FD-8AB1-4848-B4FF-7F02DCBA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5A9B-2A64-4FFE-91D3-D89E55C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5EE0-1C37-4812-981F-01669153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ECAC-EA16-45F8-9024-54BE338C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1D13-1E45-461A-A36B-DEA3720B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C8F06-405A-4E52-9343-38407B46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24C1-C0B3-47F5-94B9-90D80A76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2082-0BFA-4192-8BCE-AFD480ED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EC77-AF96-48F4-9811-9D780ED7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CB75-A964-461B-BD50-5F73B8A0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77A-C9FC-4035-9053-0532E0C9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1A48-D9EF-4CE6-90E9-33DE19C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BBDF-B377-4365-8C57-0F8728F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9628-7B91-4A0A-BFC2-53DA28D3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A1C4-1A68-42F6-A36F-5510309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6114-3383-4753-A5B6-A5FC78A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817D-1875-4140-BD95-88BF1A35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2474-75C8-4B19-9440-C8EF3E31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CAF7-07A5-473C-8FF7-00B8B236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D7580-5C2E-4B59-832E-E7B2D43C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CF11-548F-4852-8B96-8C5E6C20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6DA-6F36-49AD-BB50-BAEF5573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305E-B267-4145-B9E4-EA6AD28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F32D-13D6-41E3-B585-4098B943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EAC1-34B8-45E1-A692-C87D6A60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07AB-055F-483A-B5EC-043EFB80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8890-FECF-4B89-BE66-24455EA4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62A3-0D7F-4A20-9693-300CF44A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CCF7A-0298-462F-BD19-21931FD5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9531-A872-4AC6-BAE5-596B7F86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246E-ECE9-45A6-89FB-878AF6ED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1EB-3C44-44A7-851D-4AB3CC6C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5EC-7139-440C-9339-1D9A0BC1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377-B0AA-450C-8A93-1C60C77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391-5165-4CB3-B8B0-6AF1FED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802-A1AB-4922-8FA5-497360D8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AE04-665B-4C4F-8ADE-DC261019CA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0676-D078-4764-8680-10DA2F8B65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9BFF-F9A9-485C-9C0E-55A9105D5E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2CF9-D0AC-41BB-B4AC-EA4336625C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Администрация Борковского</a:t>
            </a:r>
            <a:br>
              <a:rPr sz="3200"/>
            </a:b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 сельсовет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642160" cy="144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БЮДЖЕТ БОРКОВСКОГО СЕЛЬСОВЕТА СУДЖАН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НА 2020 ГОД И НА ПЛАНОВЫЙ ПЕРИОД 2021, 2022 ГО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9" descr="i (1)"/>
          <p:cNvPicPr/>
          <p:nvPr/>
        </p:nvPicPr>
        <p:blipFill>
          <a:blip r:embed="rId1"/>
          <a:stretch/>
        </p:blipFill>
        <p:spPr>
          <a:xfrm>
            <a:off x="2843280" y="177336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инамика безвозмездных поступлений бюджета Борковского сельсовета 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3" name="Object 4" descr=""/>
          <p:cNvPicPr/>
          <p:nvPr/>
        </p:nvPicPr>
        <p:blipFill>
          <a:blip r:embed="rId1"/>
          <a:stretch/>
        </p:blipFill>
        <p:spPr>
          <a:xfrm>
            <a:off x="560520" y="1649520"/>
            <a:ext cx="80229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расходов бюджета Борковского сельсовета Суджанского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93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20году составил 2739,8 тыс. рублей,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9280" y="1844640"/>
          <a:ext cx="8713800" cy="32306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9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684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98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зкономика – 194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21,2022 году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989000"/>
          <a:ext cx="8497800" cy="383400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 год – 869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 год- 871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19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39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53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5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2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31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289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20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1197000"/>
          <a:ext cx="9144000" cy="4394160"/>
        </p:xfrm>
        <a:graphic>
          <a:graphicData uri="http://schemas.openxmlformats.org/drawingml/2006/table">
            <a:tbl>
              <a:tblPr/>
              <a:tblGrid>
                <a:gridCol w="6502320"/>
                <a:gridCol w="264168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21, 2022 годов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4000" y="1628640"/>
          <a:ext cx="8496000" cy="4948200"/>
        </p:xfrm>
        <a:graphic>
          <a:graphicData uri="http://schemas.openxmlformats.org/drawingml/2006/table">
            <a:tbl>
              <a:tblPr/>
              <a:tblGrid>
                <a:gridCol w="5543280"/>
                <a:gridCol w="1490760"/>
                <a:gridCol w="1461960"/>
              </a:tblGrid>
              <a:tr h="1520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8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452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Бюджет Борковского сельсовета Суджанского района на 2020 год и на плановый период 2021, 2022 годов   сформирован  на основе основных направлений бюджетной и налоговой политики Борковского сельсовета  Суджанского района на 2020 год и на плановый период 2021 – 2022 годов. Главной идеологией бюджетной политики традиционно остается улучшение условий жизни населения Борковского сельсовета, выполнение социальных обязательств перед гражданами, предоставление качественных муниципальных услуг на основе целей и задач, определенных указами Президента Российской Федерации и Стратегией социально-экономического развития Борковского сельсовета  на период до 2022 год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40"/>
          <p:cNvSpPr/>
          <p:nvPr/>
        </p:nvSpPr>
        <p:spPr>
          <a:xfrm>
            <a:off x="2771640" y="1628640"/>
            <a:ext cx="3095640" cy="302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 формирования бюджета Борковского сельсовета  Суджанского района на 2020 год и на плановый период 2021, 2022 г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43"/>
          <p:cNvSpPr/>
          <p:nvPr/>
        </p:nvSpPr>
        <p:spPr>
          <a:xfrm>
            <a:off x="324000" y="333360"/>
            <a:ext cx="2879640" cy="172728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Курской области на 2020 год и на плановый период 2021, 2022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45"/>
          <p:cNvSpPr/>
          <p:nvPr/>
        </p:nvSpPr>
        <p:spPr>
          <a:xfrm>
            <a:off x="5435640" y="260280"/>
            <a:ext cx="3384360" cy="172872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Борковского сельсовета на 2020 год и на плановый период 2021, 2022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7"/>
          <p:cNvSpPr/>
          <p:nvPr/>
        </p:nvSpPr>
        <p:spPr>
          <a:xfrm>
            <a:off x="468360" y="3716280"/>
            <a:ext cx="2663640" cy="223380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гноз социально-экономического развития Борковского сельсовета на 2020 год и на плановый период 2021, 2022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48"/>
          <p:cNvSpPr/>
          <p:nvPr/>
        </p:nvSpPr>
        <p:spPr>
          <a:xfrm>
            <a:off x="5940360" y="3645000"/>
            <a:ext cx="2160720" cy="237636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униципальные программы Борковского сельсове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1979640" y="206064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2627280" y="4581360"/>
            <a:ext cx="1295280" cy="792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57"/>
          <p:cNvSpPr/>
          <p:nvPr/>
        </p:nvSpPr>
        <p:spPr>
          <a:xfrm>
            <a:off x="5867280" y="1989000"/>
            <a:ext cx="1009800" cy="129564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852151"/>
                <a:lnTo>
                  <a:pt x="6589" y="21240"/>
                </a:lnTo>
                <a:lnTo>
                  <a:pt x="0" y="17280"/>
                </a:lnTo>
                <a:lnTo>
                  <a:pt x="6589" y="12600"/>
                </a:lnTo>
                <a:lnTo>
                  <a:pt x="6589" y="14760"/>
                </a:lnTo>
                <a:arcTo wR="21600" hR="7560" stAng="2852151" swAng="-24947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64"/>
          <p:cNvSpPr/>
          <p:nvPr/>
        </p:nvSpPr>
        <p:spPr>
          <a:xfrm rot="5400000">
            <a:off x="4812120" y="4269600"/>
            <a:ext cx="806760" cy="1430280"/>
          </a:xfrm>
          <a:custGeom>
            <a:avLst/>
            <a:gdLst>
              <a:gd name="textAreaLeft" fmla="*/ 108000 w 806760"/>
              <a:gd name="textAreaRight" fmla="*/ 698760 w 806760"/>
              <a:gd name="textAreaTop" fmla="*/ 250200 h 1430280"/>
              <a:gd name="textAreaBottom" fmla="*/ 103716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8"/>
              </a:rPr>
              <a:t>Бюджет Борковского сельсовета Суджанского района на 2020 год и на плановый период 2021, 2022 годов  направлен на выполнение следующих задач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179280" y="1916280"/>
            <a:ext cx="864252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устойчивости и сбалансированности бюджетной системы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ях гарантированного исполнения действующих и принимаем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ходных обязатель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179280" y="2997360"/>
            <a:ext cx="8713800" cy="8632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бюджетной политики, в том числе за сч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 эффективности бюджетных рас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179280" y="494172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роли бюджетной политики для поддержки экономи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50920" y="4076640"/>
            <a:ext cx="8713800" cy="647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ие финансовых возможностей Борковского сельсов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ючевым направлениям разви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250920" y="580536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прозрачности и открытости бюджетного проце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Основные параметры бюджета Борковского сельсовета Суджанского района на 2020 год и на плановый период 2021– 2022 годов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413000"/>
          <a:ext cx="8496000" cy="4935240"/>
        </p:xfrm>
        <a:graphic>
          <a:graphicData uri="http://schemas.openxmlformats.org/drawingml/2006/table">
            <a:tbl>
              <a:tblPr/>
              <a:tblGrid>
                <a:gridCol w="2832120"/>
                <a:gridCol w="1414440"/>
                <a:gridCol w="21254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0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73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86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7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1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1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1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22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с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73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6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7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ефицит (-), профицит(+) бюдж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доходов бюджета Борковского сельсовета  Суджанского 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9" name="Object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165800" cy="181764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4" descr=""/>
          <p:cNvPicPr/>
          <p:nvPr/>
        </p:nvPicPr>
        <p:blipFill>
          <a:blip r:embed="rId2"/>
          <a:stretch/>
        </p:blipFill>
        <p:spPr>
          <a:xfrm>
            <a:off x="480960" y="1933560"/>
            <a:ext cx="79930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Динамика налоговых и неналоговых доходов бюджета Борковского сельсовета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2" name="Object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64600" cy="365760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4" descr=""/>
          <p:cNvPicPr/>
          <p:nvPr/>
        </p:nvPicPr>
        <p:blipFill>
          <a:blip r:embed="rId2"/>
          <a:stretch/>
        </p:blipFill>
        <p:spPr>
          <a:xfrm>
            <a:off x="755640" y="169236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</a:t>
            </a: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уджанского района в 2020 году составил 518,9 тыс.рублей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9640" y="1773360"/>
          <a:ext cx="8207640" cy="2881080"/>
        </p:xfrm>
        <a:graphic>
          <a:graphicData uri="http://schemas.openxmlformats.org/drawingml/2006/table">
            <a:tbl>
              <a:tblPr/>
              <a:tblGrid>
                <a:gridCol w="82076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3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41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Доходы от использования имущества-59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 Суджанского района в 2021, 2022 годах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2349360"/>
          <a:ext cx="8229600" cy="338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2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1год-519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 год -519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4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39,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 3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2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41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41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от использования имущества-5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от использования имущества-5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руктура налоговых  и неналоговых доходов бюджета Борковского сельсовета  Суджанского района в 2020 году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9" name="Object 6" descr=""/>
          <p:cNvPicPr/>
          <p:nvPr/>
        </p:nvPicPr>
        <p:blipFill>
          <a:blip r:embed="rId1"/>
          <a:stretch/>
        </p:blipFill>
        <p:spPr>
          <a:xfrm>
            <a:off x="272880" y="1074600"/>
            <a:ext cx="8598240" cy="5295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7"/>
          <p:cNvSpPr/>
          <p:nvPr/>
        </p:nvSpPr>
        <p:spPr>
          <a:xfrm>
            <a:off x="2484360" y="177156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ходы от использования имущества 2,2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7"/>
          <p:cNvSpPr/>
          <p:nvPr/>
        </p:nvSpPr>
        <p:spPr>
          <a:xfrm flipH="1" flipV="1">
            <a:off x="4066920" y="2079720"/>
            <a:ext cx="649080" cy="127800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1:33:22Z</dcterms:created>
  <dc:creator>1</dc:creator>
  <dc:description/>
  <dc:language>en-US</dc:language>
  <cp:lastModifiedBy>borkiss</cp:lastModifiedBy>
  <cp:lastPrinted>2018-02-26T07:52:43Z</cp:lastPrinted>
  <dcterms:modified xsi:type="dcterms:W3CDTF">2019-12-30T08:50:05Z</dcterms:modified>
  <cp:revision>287</cp:revision>
  <dc:subject/>
  <dc:title>Финансовое управление Администрации Каменского района</dc:title>
</cp:coreProperties>
</file>