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DD06-80C2-4481-BC5F-06FDB24DC3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76C2-AB98-427A-A7CD-B59B891365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C6C5-DDA6-4C83-8E1D-11AAC034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75E-6EDF-42AF-BCE1-03AD77C6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485-D3D7-4167-B623-CC713EB1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AF8-216A-4A99-A44A-A31B8242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7FDE-87A3-42C0-AC1B-B54EBEE1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1474-3E70-4898-BE2D-511A1E39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F1C4-8FF2-4883-A2EB-6AFF42DD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3A00-FC72-43A3-A60F-D989CC7E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8522-2BFF-44F5-9147-35AA2E2D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6E81-37CF-460D-B361-F8E50200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D3A1-C63C-43A0-83BE-9178E581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76A-95F5-458E-83C2-E01E554B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2ED3-F9BF-4861-8EBF-4C41C5C7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082C-59C1-4BAE-890E-C867546F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CA93-515A-4FF2-885F-0A5F5B24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EC76-361D-409A-BC93-4F5005AF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570B-5F17-41B8-AC9C-6D3E1128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5BE85-5041-4D5B-B1FF-2B525036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78680-C910-49D3-B1AD-6D29BD4B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31E47-1C0B-499B-9757-8D9418F1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19E8A-6F64-4E3F-86C4-5249D302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BDB1C-24B6-467E-B302-8ECAF29D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CE7-EB5A-4A62-8780-E479D682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83496-C4B3-43CC-9027-45047C51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9BD86-C33D-42DB-9165-C72D1AED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BB9F1-126A-45B3-A05D-6277EBB2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FB281-840A-49C7-B49C-4678E375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B871E-188F-409B-B35F-FE04418D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3771D-2803-40A1-AA59-894D045F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8497A-C794-41E1-A247-4CCFF6AE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E8091-2DD9-4456-8FA8-E8517D90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1592C-44A1-45C9-A42F-9DA2D820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13194-8C56-4F83-9B5A-8CB80BE8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76A5-5984-4B2D-8118-A0996283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B99AB-65EF-45CA-B9F0-2733591C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065CB-EB50-4DBB-AB9E-506D2D2F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4853D-D802-49B0-A897-10DE33FB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D6652-1BAE-4FF2-9595-956B7A52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2C2F5-95D2-4806-9591-1D041590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75F6B-BB46-44E1-891C-42F40196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E6274-A7CB-4D01-A30B-F322BAD7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C7179-A76A-42A9-9216-8C321986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CF77C-F4B4-434E-9B9F-C9118E87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694-B1BB-4896-A3ED-4EF26F59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C16-7BC2-4845-B856-2BB0D7D7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160B-A5EF-4C98-8722-6ADF1510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EF7-F851-4EBC-92D6-01CE76FA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4A3-B5DF-45E0-B836-9DDFDC5B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FCDD-B77B-444D-9614-DB09DA5DB1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71FD-363E-4DFF-8B83-3BBCB3C6EBF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4DE9-E5C2-442E-B2A8-92538B5888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5BB6-D43B-485C-83EF-419804CADB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5370"/>
                </a:solidFill>
                <a:latin typeface="Times New Roman"/>
              </a:rPr>
              <a:t>Администрация Борковского</a:t>
            </a:r>
            <a:br>
              <a:rPr sz="3200"/>
            </a:br>
            <a:r>
              <a:rPr b="1" lang="ru-RU" sz="3200" spc="-1" strike="noStrike">
                <a:solidFill>
                  <a:srgbClr val="025370"/>
                </a:solidFill>
                <a:latin typeface="Times New Roman"/>
              </a:rPr>
              <a:t> сельсовет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0920" y="4797360"/>
            <a:ext cx="8642160" cy="1440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706"/>
                </a:solidFill>
                <a:latin typeface="Times New Roman"/>
              </a:rPr>
              <a:t>БЮДЖЕТ БОРКОВСКОГО СЕЛЬСОВЕТА СУДЖАНСКОГО  РАЙО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706"/>
                </a:solidFill>
                <a:latin typeface="Times New Roman"/>
              </a:rPr>
              <a:t>НА 2021 ГОД И НА ПЛАНОВЫЙ ПЕРИОД 2022, 2023 ГОД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9" descr="i (1)"/>
          <p:cNvPicPr/>
          <p:nvPr/>
        </p:nvPicPr>
        <p:blipFill>
          <a:blip r:embed="rId1"/>
          <a:stretch/>
        </p:blipFill>
        <p:spPr>
          <a:xfrm>
            <a:off x="2843280" y="1773360"/>
            <a:ext cx="3529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инамика безвозмездных поступлений бюджета Борковского сельсовета Суджанского район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83" name="Object 4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0233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инамика расходов бюджета Борковского сельсовета Суджанского район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936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расходов бюджета Борковского сельсовета Суджанского района в 2021году составил 2286,0 тыс. рублей, из них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79280" y="1844640"/>
          <a:ext cx="8713800" cy="323064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629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циональная оборона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89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66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Культура, кинематография 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807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циональная зкономика – 9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расходов бюджета Борковского сельсовета Суджанского района в 2022,2023 году составил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1989000"/>
          <a:ext cx="8497800" cy="383400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64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2 год – 960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3год- 971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Условно утвержденные расходы – 22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Условно утвержденные расходы – 43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02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50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46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циональная оборона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9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циональная оборона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93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Культура, кинематография 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344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Культура, кинематография 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371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оля муниципальных программ в общем объеме расходов запланированных на реализацию муниципальных программ в 2021г 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1197000"/>
          <a:ext cx="9144000" cy="4394160"/>
        </p:xfrm>
        <a:graphic>
          <a:graphicData uri="http://schemas.openxmlformats.org/drawingml/2006/table">
            <a:tbl>
              <a:tblPr/>
              <a:tblGrid>
                <a:gridCol w="6502320"/>
                <a:gridCol w="2641680"/>
              </a:tblGrid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культу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5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муниципальной служб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еспечение доступным и комфортным жильем и коммунальными услугами граждан в муниципальном образова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3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оля муниципальных программ в общем объеме расходов запланированных на реализацию муниципальных программ в 2022, 2023 годовг 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4000" y="1628640"/>
          <a:ext cx="8496000" cy="4948200"/>
        </p:xfrm>
        <a:graphic>
          <a:graphicData uri="http://schemas.openxmlformats.org/drawingml/2006/table">
            <a:tbl>
              <a:tblPr/>
              <a:tblGrid>
                <a:gridCol w="5543280"/>
                <a:gridCol w="1490760"/>
                <a:gridCol w="1461960"/>
              </a:tblGrid>
              <a:tr h="1520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2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3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961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677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культу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5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8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444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муниципальной служб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961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еспечение доступным и комфортным жильем и коммунальными услугами граждан в муниципальном образован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38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4524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Бюджет Борковского сельсовета Суджанского района на 2021 год и на плановый период 2022, 2023 годов   сформирован  на основе основных направлений бюджетной и налоговой политики Борковского сельсовета  Суджанского района на 2021 год и на плановый период 2022 – 2023 годов. Главной идеологией бюджетной политики традиционно остается улучшение условий жизни населения Борковского сельсовета, выполнение социальных обязательств перед гражданами, предоставление качественных муниципальных услуг на основе целей и задач, определенных указами Президента Российской Федерации и Стратегией социально-экономического развития Борковского сельсовета  на период до 2023 года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solidFill>
            <a:srgbClr val="feec9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Oval 40"/>
          <p:cNvSpPr/>
          <p:nvPr/>
        </p:nvSpPr>
        <p:spPr>
          <a:xfrm>
            <a:off x="2771640" y="1628640"/>
            <a:ext cx="3095640" cy="302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ы формирования бюджета Борковского сельсовета  Суджанского района на 2021 год и на плановый период 2022, 2023 год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AutoShape 43"/>
          <p:cNvSpPr/>
          <p:nvPr/>
        </p:nvSpPr>
        <p:spPr>
          <a:xfrm>
            <a:off x="324000" y="333360"/>
            <a:ext cx="2879640" cy="172728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Основные направления бюджетной и налоговой политики Курской области на 2021 год и на плановый период 2022, 2023 го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45"/>
          <p:cNvSpPr/>
          <p:nvPr/>
        </p:nvSpPr>
        <p:spPr>
          <a:xfrm>
            <a:off x="5435640" y="260280"/>
            <a:ext cx="3384360" cy="172872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Основные направления бюджетной и налоговой политики Борковского сельсовета на 2021 год и на плановый период 2022, 2023 го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47"/>
          <p:cNvSpPr/>
          <p:nvPr/>
        </p:nvSpPr>
        <p:spPr>
          <a:xfrm>
            <a:off x="785880" y="3857760"/>
            <a:ext cx="2663640" cy="223344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огноз социально-экономического развития Борковского сельсовета на 2021 год и на плановый период 2022, 2023 го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48"/>
          <p:cNvSpPr/>
          <p:nvPr/>
        </p:nvSpPr>
        <p:spPr>
          <a:xfrm>
            <a:off x="5940360" y="3645000"/>
            <a:ext cx="2160720" cy="237636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Муниципальные программы Борковского сельсове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AutoShape 50"/>
          <p:cNvSpPr/>
          <p:nvPr/>
        </p:nvSpPr>
        <p:spPr>
          <a:xfrm>
            <a:off x="1979640" y="2060640"/>
            <a:ext cx="792000" cy="1224000"/>
          </a:xfrm>
          <a:custGeom>
            <a:avLst/>
            <a:gdLst>
              <a:gd name="textAreaLeft" fmla="*/ 105840 w 792000"/>
              <a:gd name="textAreaRight" fmla="*/ 686160 w 792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AutoShape 51"/>
          <p:cNvSpPr/>
          <p:nvPr/>
        </p:nvSpPr>
        <p:spPr>
          <a:xfrm>
            <a:off x="2627280" y="4581360"/>
            <a:ext cx="1295280" cy="7923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57"/>
          <p:cNvSpPr/>
          <p:nvPr/>
        </p:nvSpPr>
        <p:spPr>
          <a:xfrm>
            <a:off x="5867280" y="1989000"/>
            <a:ext cx="1009800" cy="1295640"/>
          </a:xfrm>
          <a:custGeom>
            <a:avLst/>
            <a:gdLst>
              <a:gd name="textAreaLeft" fmla="*/ 135000 w 1009800"/>
              <a:gd name="textAreaRight" fmla="*/ 874800 w 100980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852151"/>
                <a:lnTo>
                  <a:pt x="6589" y="21240"/>
                </a:lnTo>
                <a:lnTo>
                  <a:pt x="0" y="17280"/>
                </a:lnTo>
                <a:lnTo>
                  <a:pt x="6589" y="12600"/>
                </a:lnTo>
                <a:lnTo>
                  <a:pt x="6589" y="14760"/>
                </a:lnTo>
                <a:arcTo wR="21600" hR="7560" stAng="2852151" swAng="-2494717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AutoShape 64"/>
          <p:cNvSpPr/>
          <p:nvPr/>
        </p:nvSpPr>
        <p:spPr>
          <a:xfrm rot="5400000">
            <a:off x="4812120" y="4269600"/>
            <a:ext cx="806760" cy="1430280"/>
          </a:xfrm>
          <a:custGeom>
            <a:avLst/>
            <a:gdLst>
              <a:gd name="textAreaLeft" fmla="*/ 108000 w 806760"/>
              <a:gd name="textAreaRight" fmla="*/ 698760 w 806760"/>
              <a:gd name="textAreaTop" fmla="*/ 250200 h 1430280"/>
              <a:gd name="textAreaBottom" fmla="*/ 1037160 h 143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28"/>
              </a:rPr>
              <a:t>Бюджет Борковского сельсовета Суджанского района на 2021 год и на плановый период 2022, 2023 годов  направлен на выполнение следующих задач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179280" y="1916280"/>
            <a:ext cx="8642520" cy="865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ение устойчивости и сбалансированности бюджетной системы 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ях гарантированного исполнения действующих и принимаем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ходных обязательст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179280" y="2997360"/>
            <a:ext cx="8713800" cy="8632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эффективности бюджетной политики, в том числе за сч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та эффективности бюджетных расход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179280" y="4941720"/>
            <a:ext cx="8713800" cy="64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роли бюджетной политики для поддержки экономическ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250920" y="4076640"/>
            <a:ext cx="8713800" cy="647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тветствие финансовых возможностей Борковского сельсове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ючевым направлениям развит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250920" y="5805360"/>
            <a:ext cx="8713800" cy="648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прозрачности и открытости бюджетного процесс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Основные параметры бюджета Борковского сельсовета Суджанского района на 2021 год и на плановый период 2022– 2023 годов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24000" y="1413000"/>
          <a:ext cx="8496000" cy="4935240"/>
        </p:xfrm>
        <a:graphic>
          <a:graphicData uri="http://schemas.openxmlformats.org/drawingml/2006/table">
            <a:tbl>
              <a:tblPr/>
              <a:tblGrid>
                <a:gridCol w="2832120"/>
                <a:gridCol w="1414440"/>
                <a:gridCol w="2125440"/>
                <a:gridCol w="2124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1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2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3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ходы бюджета, 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254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992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97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из них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64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609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61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1613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83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6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сходы бюджета, 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28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96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97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ефицит (-), профицит(+) бюдже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-3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инамика доходов бюджета Борковского сельсовета  Суджанского  район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9" name="Object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165800" cy="1817640"/>
          </a:xfrm>
          <a:prstGeom prst="rect">
            <a:avLst/>
          </a:prstGeom>
          <a:ln w="0">
            <a:noFill/>
          </a:ln>
        </p:spPr>
      </p:pic>
      <p:pic>
        <p:nvPicPr>
          <p:cNvPr id="270" name="Object 4" descr=""/>
          <p:cNvPicPr/>
          <p:nvPr/>
        </p:nvPicPr>
        <p:blipFill>
          <a:blip r:embed="rId2"/>
          <a:stretch/>
        </p:blipFill>
        <p:spPr>
          <a:xfrm>
            <a:off x="480960" y="1933560"/>
            <a:ext cx="799308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26"/>
              </a:rPr>
              <a:t>Динамика налоговых и неналоговых доходов бюджета Борковского сельсовета 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26"/>
              </a:rPr>
              <a:t>Суджанского район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2" name="Object 4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564600" cy="365760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4" descr=""/>
          <p:cNvPicPr/>
          <p:nvPr/>
        </p:nvPicPr>
        <p:blipFill>
          <a:blip r:embed="rId2"/>
          <a:stretch/>
        </p:blipFill>
        <p:spPr>
          <a:xfrm>
            <a:off x="755640" y="169236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налоговых и неналоговых доходов бюджета Борковского сельсовета</a:t>
            </a:r>
            <a:r>
              <a:rPr b="1" lang="ru-RU" sz="2400" spc="-1" strike="noStrike">
                <a:solidFill>
                  <a:srgbClr val="feec94"/>
                </a:solidFill>
                <a:latin typeface="26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уджанского района в 2021году составил 640,3 тыс.рублей из них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539640" y="1773360"/>
          <a:ext cx="8207640" cy="2881080"/>
        </p:xfrm>
        <a:graphic>
          <a:graphicData uri="http://schemas.openxmlformats.org/drawingml/2006/table">
            <a:tbl>
              <a:tblPr/>
              <a:tblGrid>
                <a:gridCol w="820764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прибыль, доходы – 31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имущество – 547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Прочие неналоговые доходы  - 61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налоговых и неналоговых доходов бюджета Борковского сельсовета Суджанского района в 2022, 2023 годах составил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5280" y="2349360"/>
          <a:ext cx="8229600" cy="338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73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2год-609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3 год -610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7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прибыль, доходы – 32,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прибыль, доходы –  33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72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имущество –  547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имущество –  547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Прочие неналоговые доходы-29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Прочие неналоговые доходы-29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труктура налоговых  и неналоговых доходов бюджета Борковского сельсовета  Суджанского района в 2021 году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9" name="Object 6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8597880" cy="52956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7"/>
          <p:cNvSpPr/>
          <p:nvPr/>
        </p:nvSpPr>
        <p:spPr>
          <a:xfrm>
            <a:off x="2643120" y="250020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чие неналоговые доходы 2,7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Прямая соединительная линия 7"/>
          <p:cNvSpPr/>
          <p:nvPr/>
        </p:nvSpPr>
        <p:spPr>
          <a:xfrm flipH="1" flipV="1">
            <a:off x="3929040" y="2928960"/>
            <a:ext cx="649440" cy="1278000"/>
          </a:xfrm>
          <a:prstGeom prst="line">
            <a:avLst/>
          </a:prstGeom>
          <a:ln w="9360">
            <a:solidFill>
              <a:srgbClr val="ff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11:33:22Z</dcterms:created>
  <dc:creator>1</dc:creator>
  <dc:description/>
  <dc:language>en-US</dc:language>
  <cp:lastModifiedBy>Borki5</cp:lastModifiedBy>
  <cp:lastPrinted>2018-02-26T07:52:43Z</cp:lastPrinted>
  <dcterms:modified xsi:type="dcterms:W3CDTF">2021-02-20T07:09:37Z</dcterms:modified>
  <cp:revision>303</cp:revision>
  <dc:subject/>
  <dc:title>Финансовое управление Администрации Каменского района</dc:title>
</cp:coreProperties>
</file>