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504-F74B-4766-9D12-5CFB22173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D9E6-517C-4B94-8C53-305B819871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D73-8CA8-4966-906A-C96E4BAA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EF6-9DB7-4528-89FC-9CA343FF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239-87AD-43F0-812E-0FE3BC6E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ED4-B747-4B36-A39A-48520E6F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C4E1-1C9A-4E08-B4FD-B25981BB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58DC-B7FC-440D-A71A-09524F37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963E-4B65-48A1-B7D4-5A8F0EA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C5F7-2933-4252-946E-A23D73AD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EEA8-7BC7-4DB3-9AF5-7153D0FC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A5F4-F26A-4DD3-A6DF-AD45985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567A-CBB8-4C0F-AEF5-8D1B589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FF8-80AE-4949-9D5D-3AD7220B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0E4F-9BF4-4173-AA45-42962317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D0AA-AA65-42EE-804A-60B87BE6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FA6-849E-45B7-BF50-2A8BC01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263B-94B9-460F-9F5E-8DD190C5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4F4D-CAF0-46FD-8B51-E53F936F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58C0-0A84-4A1A-AAAD-C9C101C9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538D-E79B-43FC-834C-E177379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1104-3BA7-4678-B9DF-FC69D899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2520-60FD-4E6B-88CF-E5E1149E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12BE-6591-4A10-BAB5-D82694EB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0C2-E7B5-4663-88C1-EE079AA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1F57-A304-4F84-B6CF-9BBC80C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ADC7-3924-406C-ADA7-713D7600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612A-F00E-4AE4-881E-A7C7C1C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580E-59E9-42CD-BA38-E47C770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7E8D-8D06-4B82-A642-161DA2AE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322B-A1B7-48E6-9068-C7F61ACB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96CB-418A-49B4-B0B6-EEE2D63C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5FC1-6E5C-4306-8DBD-42D7D4E4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7FB3-2E8B-46E0-B409-C024249D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3270-BEF7-4701-BE9F-A6C163F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F59-9EBC-4D07-B994-9140393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0D1C-AF0A-4117-B57D-1A3736B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E6A8-6D5F-4CE8-B3ED-7964EA77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5AFE-AD06-4E9D-AD19-1C9096A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7798-9DE1-4AAD-AEB1-265D873C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74AE-1128-4031-85A7-DBEEAA4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1FB3-7F75-44FF-91C5-49E76064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A505-C70B-4F67-A642-FD53830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55B6-10A7-40A4-AAB1-11028FAA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E281-4B00-4088-A9B0-5622083C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5B1-0EA0-4750-8482-3A5CB88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CC3-A05E-46B7-9B34-9CA517A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A9C-8AA4-40F4-8F7A-6460136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37C-6B5B-4E38-83D4-D649F3E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AB8-7B3D-4DCD-84B3-72FFD021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19E1-931A-4320-B7DF-6B5201CC94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B5D8-A0F6-43A5-9C99-93C0E69173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5F96-7F5F-4F72-AB6A-5DDDC578CB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21E-EAA1-47B9-B9E6-679D32A877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Администрация Борковского</a:t>
            </a:r>
            <a:br>
              <a:rPr sz="3200"/>
            </a:b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 сельсове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44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БЮДЖЕТ БОРКОВСКОГО СЕЛЬСОВЕТА СУДЖАН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НА 2022 ГОД И НА ПЛАНОВЫЙ ПЕРИОД 2023, 2024 Г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9" descr="i (1)"/>
          <p:cNvPicPr/>
          <p:nvPr/>
        </p:nvPicPr>
        <p:blipFill>
          <a:blip r:embed="rId1"/>
          <a:stretch/>
        </p:blipFill>
        <p:spPr>
          <a:xfrm>
            <a:off x="2843280" y="17733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инамика безвозмездных поступлений бюджета Борковского сельсовета 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023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расходов бюджета Борковского сельсовета Суджанского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79293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2году составил 3160,9 тыс. рублей,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844640"/>
          <a:ext cx="8713800" cy="3230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49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10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201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зкономика –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3,2024 году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989000"/>
          <a:ext cx="8497800" cy="383400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 год – 1362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4 год- 139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33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64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67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27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56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60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2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1197000"/>
          <a:ext cx="9144000" cy="4394160"/>
        </p:xfrm>
        <a:graphic>
          <a:graphicData uri="http://schemas.openxmlformats.org/drawingml/2006/table">
            <a:tbl>
              <a:tblPr/>
              <a:tblGrid>
                <a:gridCol w="6502320"/>
                <a:gridCol w="264168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3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3, 2024 годов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4000" y="1628640"/>
          <a:ext cx="8496000" cy="4948200"/>
        </p:xfrm>
        <a:graphic>
          <a:graphicData uri="http://schemas.openxmlformats.org/drawingml/2006/table">
            <a:tbl>
              <a:tblPr/>
              <a:tblGrid>
                <a:gridCol w="5543280"/>
                <a:gridCol w="1490760"/>
                <a:gridCol w="1461960"/>
              </a:tblGrid>
              <a:tr h="1520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4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8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Бюджет Борковского сельсовета Суджанского района на 2022 год и на плановый период 2023, 2024 годов   сформирован  на основе основных направлений бюджетной и налоговой политики Борковского сельсовета  Суджанского района на 2022 год и на плановый период 2023 – 2024 годов. Главной идеологией бюджетной политики традиционно остается улучшение условий жизни населения Борковского сельсовета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Борковского сельсовета  на период до 2024 год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2771640" y="1628640"/>
            <a:ext cx="3095640" cy="302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Борковского сельсовета  Суджанского района на 2022 год и на плановый период 2023, 2024 г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43"/>
          <p:cNvSpPr/>
          <p:nvPr/>
        </p:nvSpPr>
        <p:spPr>
          <a:xfrm>
            <a:off x="324000" y="333360"/>
            <a:ext cx="2879640" cy="172728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Курской области на 2022 год и на плановый период 2023, 2024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5435640" y="260280"/>
            <a:ext cx="3384360" cy="172872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Борковского сельсовета на 2022 год и на плановый период 2023, 2024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785880" y="3857760"/>
            <a:ext cx="2663640" cy="223344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гноз социально-экономического развития Борковского сельсовета на 2022 год и на плановый период 2023, 2024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940360" y="3645000"/>
            <a:ext cx="2160720" cy="237636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униципальные программы Борковского сельсов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1979640" y="206064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2627280" y="4581360"/>
            <a:ext cx="1295280" cy="79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7"/>
          <p:cNvSpPr/>
          <p:nvPr/>
        </p:nvSpPr>
        <p:spPr>
          <a:xfrm>
            <a:off x="5867280" y="1989000"/>
            <a:ext cx="1009800" cy="129564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852151"/>
                <a:lnTo>
                  <a:pt x="6589" y="21240"/>
                </a:lnTo>
                <a:lnTo>
                  <a:pt x="0" y="17280"/>
                </a:lnTo>
                <a:lnTo>
                  <a:pt x="6589" y="12600"/>
                </a:lnTo>
                <a:lnTo>
                  <a:pt x="6589" y="14760"/>
                </a:lnTo>
                <a:arcTo wR="21600" hR="7560" stAng="2852151" swAng="-24947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4"/>
          <p:cNvSpPr/>
          <p:nvPr/>
        </p:nvSpPr>
        <p:spPr>
          <a:xfrm rot="5400000">
            <a:off x="4812120" y="426960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8"/>
              </a:rPr>
              <a:t>Бюджет Борковского сельсовета Суджанского района на 2022 год и на плановый период 2023, 2024 годов  направлен на выполнение следующих задач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7928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7928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финансовых возможностей Борковского сельсов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сновные параметры бюджета Борковского сельсовета Суджанского района на 2022 год и на плановый период 2023– 2024 год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413000"/>
          <a:ext cx="8496000" cy="4935240"/>
        </p:xfrm>
        <a:graphic>
          <a:graphicData uri="http://schemas.openxmlformats.org/drawingml/2006/table">
            <a:tbl>
              <a:tblPr/>
              <a:tblGrid>
                <a:gridCol w="2832120"/>
                <a:gridCol w="1414440"/>
                <a:gridCol w="21254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4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10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141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39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05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02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02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4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8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6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16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36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39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-5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доходов бюджета Борковского сельсовета  Суджанского 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65800" cy="181764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4" descr=""/>
          <p:cNvPicPr/>
          <p:nvPr/>
        </p:nvPicPr>
        <p:blipFill>
          <a:blip r:embed="rId2"/>
          <a:stretch/>
        </p:blipFill>
        <p:spPr>
          <a:xfrm>
            <a:off x="480960" y="193356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Динамика налоговых и неналоговых доходов бюджета Борковского сельсовета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64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3" descr=""/>
          <p:cNvPicPr/>
          <p:nvPr/>
        </p:nvPicPr>
        <p:blipFill>
          <a:blip r:embed="rId2"/>
          <a:stretch/>
        </p:blipFill>
        <p:spPr>
          <a:xfrm>
            <a:off x="755640" y="1692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</a:t>
            </a: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уджанского района в 2022году составил 1058,5 тыс.рублей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9640" y="1773360"/>
          <a:ext cx="8207640" cy="2881080"/>
        </p:xfrm>
        <a:graphic>
          <a:graphicData uri="http://schemas.openxmlformats.org/drawingml/2006/table">
            <a:tbl>
              <a:tblPr/>
              <a:tblGrid>
                <a:gridCol w="8207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4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55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Прочие неналоговые доходы  - 45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 Суджанского района в 2023, 2024 годах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2349360"/>
          <a:ext cx="8229600" cy="338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3год-1027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4 год -1029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42,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 4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55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55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Прочие неналоговые доходы-42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Прочие неналоговые доходы-42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руктура налоговых  и неналоговых доходов бюджета Борковского сельсовета  Суджанского района в 2021 год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9" name="Object 6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97880" cy="5295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7"/>
          <p:cNvSpPr/>
          <p:nvPr/>
        </p:nvSpPr>
        <p:spPr>
          <a:xfrm>
            <a:off x="2643120" y="25002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чие неналоговые доходы 2,7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H="1" flipV="1">
            <a:off x="3929040" y="2928960"/>
            <a:ext cx="649440" cy="12780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Lenovo</cp:lastModifiedBy>
  <cp:lastPrinted>2018-02-26T07:52:43Z</cp:lastPrinted>
  <dcterms:modified xsi:type="dcterms:W3CDTF">2022-02-18T07:26:41Z</dcterms:modified>
  <cp:revision>310</cp:revision>
  <dc:subject/>
  <dc:title>Финансовое управление Администрации Каменского района</dc:title>
</cp:coreProperties>
</file>