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7E97-C6A5-47F2-A3A9-3D5BEF2A44C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EC5E-3F2E-4A59-ACE8-3D4D082A4DC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97C9-E82E-4D1C-A767-BD9710D376E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25360" y="6843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EBD55-B534-4BD5-A69F-09993B977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1D060-AECF-485A-A9B3-5ED46058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C96CC-950B-423B-93EF-22A801659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76D63-FFCC-478E-B8D3-8646FF21D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35F96-8D74-4C55-9F8E-072C5209C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825FB-FDC6-46C4-9A36-7754DF194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8C9FA-B0DC-4C5B-A779-29BA2DD4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E2D44-2524-4F03-9A38-155EF91F4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E4550-B60F-434A-A47C-278F9AC8F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0CE05-8B62-49DE-917D-3F5771AE7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3535-0B45-4695-BE37-3306AD4C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C782-3B34-410D-9FF6-F66D0F48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D345-3A43-417E-B17F-D2A649962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B91C4-230E-4543-98D0-44365D690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74544-211D-4D63-A977-0AB79C642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60903-F149-4874-B86C-55796F3AA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ACEB7-BACA-4265-AB0A-A1BB85968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37DBD-CCAC-4C5A-9D7F-E97516D5B8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8B358-3695-4D79-9F08-A1FE697943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CBBE7-2BB6-40B2-9571-E7B159F3C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6A3F9-83E5-49BD-935A-38FFF82A1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61C59-DD1A-4077-BAA3-D6C886787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7EE7-F26E-494E-83FA-112C1E8DC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C841C-4D3B-45B4-B880-B01A6B40B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18220-0F04-49B0-A473-D6A0D38D2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B0193-5CAE-4BCA-B9F4-E13DE65B2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B723E-0C5D-4EC4-B9D9-DC74FCAA3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EAF57-72D8-4788-BE6D-FFDA6C437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87F1FF-5C29-4425-95C7-BE0659A07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F48E3F-45FF-4010-BDE2-7C29F9E5B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A7A29A-8726-4C0D-A1DB-B3C2E5BA87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416D0-2719-43B8-B3F4-D331C9FB1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E42B7-9AA7-41F2-836C-791115AFF3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5D9B-2193-493C-B5DA-966B30807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F6A90-4A17-4A44-A28B-9C5A696D3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71C87-70C9-4ACA-8975-AB1E7570D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C10615-EC24-4DD5-8EB8-4B52493C4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BF6AB-3C89-44BB-A345-180067C50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C68CA-E3BF-43C4-99A3-192EDBDEE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8B7C2-2159-40B1-A5FA-539E98D38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68791-C0B3-451E-AE4D-479B3744B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3E868-A3F0-445F-B482-38FBB7398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903BAB-811A-4F5C-9737-FCA513E4A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9458-B395-4DBE-A095-14CB0537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5678-3487-4FA8-9DD6-1ED9F86DD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7453-7B2E-4884-94BC-94572E9D5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C959-C250-4B3E-9C11-A5E8A11F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EF3C-C3A5-4BFC-A552-4A750252B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A8B6-0D85-4082-A9E3-E879C03806C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6AA2-FF27-4E08-B38E-6F52669CFDE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252F-8F3C-479E-9C68-BF4793FF79E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BD56-9F11-4388-BFB7-1FFF1C27745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18 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18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18 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39640" y="1557360"/>
            <a:ext cx="816480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18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250920" y="765000"/>
          <a:ext cx="8642160" cy="6255000"/>
        </p:xfrm>
        <a:graphic>
          <a:graphicData uri="http://schemas.openxmlformats.org/drawingml/2006/table">
            <a:tbl>
              <a:tblPr/>
              <a:tblGrid>
                <a:gridCol w="1441440"/>
                <a:gridCol w="3959280"/>
                <a:gridCol w="1152360"/>
                <a:gridCol w="1076400"/>
                <a:gridCol w="1012680"/>
              </a:tblGrid>
              <a:tr h="639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18 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18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сего</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48,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052,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33,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37,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9,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9,8</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45,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3,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8,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24,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4,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5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60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41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41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775,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775,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9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9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7,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7,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16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2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поступления</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18 год</a:t>
            </a:r>
            <a:endParaRPr b="1" lang="en-US" sz="4000" spc="-1" strike="noStrike">
              <a:solidFill>
                <a:srgbClr val="feec94"/>
              </a:solidFill>
              <a:latin typeface="Times New Roman"/>
            </a:endParaRPr>
          </a:p>
        </p:txBody>
      </p:sp>
      <p:sp>
        <p:nvSpPr>
          <p:cNvPr id="287"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3036,3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2855,5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94,0%</a:t>
            </a:r>
            <a:endParaRPr b="0" lang="en-US" sz="3200" spc="-1" strike="noStrike">
              <a:solidFill>
                <a:srgbClr val="ffffff"/>
              </a:solidFill>
              <a:latin typeface="Times New Roman"/>
            </a:endParaRPr>
          </a:p>
        </p:txBody>
      </p:sp>
      <p:pic>
        <p:nvPicPr>
          <p:cNvPr id="288"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2"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4"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18 году по расходам</a:t>
            </a:r>
            <a:endParaRPr b="1" lang="en-US" sz="2400" spc="-1" strike="noStrike">
              <a:solidFill>
                <a:srgbClr val="feec94"/>
              </a:solidFill>
              <a:latin typeface="Times New Roman"/>
            </a:endParaRPr>
          </a:p>
        </p:txBody>
      </p:sp>
      <p:graphicFrame>
        <p:nvGraphicFramePr>
          <p:cNvPr id="296"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18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18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30,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149,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6,4</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95,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95,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14,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14,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036,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85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4,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18г  </a:t>
            </a:r>
            <a:br>
              <a:rPr sz="2400"/>
            </a:br>
            <a:endParaRPr b="1" lang="en-US" sz="2400" spc="-1" strike="noStrike">
              <a:solidFill>
                <a:srgbClr val="feec94"/>
              </a:solidFill>
              <a:latin typeface="Times New Roman"/>
            </a:endParaRPr>
          </a:p>
        </p:txBody>
      </p:sp>
      <p:graphicFrame>
        <p:nvGraphicFramePr>
          <p:cNvPr id="298"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6,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18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0"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052,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855,5</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97,1</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97,1</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97,1</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18 год  сформирован  на основе основных направлений бюджетной и налоговой политики Борковского сельсовета  Суджанского района на 2018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1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18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18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18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18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18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18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19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4,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052,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637,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41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55,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7,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39640" y="148428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borkiss</cp:lastModifiedBy>
  <dcterms:modified xsi:type="dcterms:W3CDTF">2019-05-21T13:00:49Z</dcterms:modified>
  <cp:revision>293</cp:revision>
  <dc:subject/>
  <dc:title>Финансовое управление Администрации Каменского района</dc:title>
</cp:coreProperties>
</file>