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B028-BE1A-44BB-816F-8A616B0E0B0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298A-9872-4E7B-B489-A58417F3383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1CEE-423E-407D-ABE3-850D1F6645A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125360" y="68436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A4C3C-1442-4176-8E7B-D928A1236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3B0F7-DADB-4A98-92A6-F4B78736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8117E-F8EA-44C7-BD65-30D6611F2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D2CD-4819-4D56-B2D1-AA1960D9D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EA3E0-4C09-477E-BA8B-2B4A5544E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0ABB1-E1BF-44B6-A0D9-F48C77BA2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3A1F3-17B9-4B1B-9ED2-31CB540A2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15EC4-A69B-4E30-B251-25945AF2E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04877-4623-4FA7-80BD-2184A5CD4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EE092-D772-439F-BE69-289CCFAD5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4609F-F28A-4D3F-BC11-39BE09752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9BD5C-0509-4826-A4C9-53FF40A5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B8E2-9F8B-488A-B91B-9C10A8DDD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56452-AF66-41AA-8499-5EB5C7365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BCCD-B599-4EC3-843F-0A97E694A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E7C39-EF3C-474F-9323-73F3B1E74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942E3-DE5F-4EB3-9A97-F023B64FA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D9E63E-5BA8-4943-8AB4-B55BEE7B9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CACEA-6B2B-42B2-B44F-9D14E92C9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861AB-99E0-4AA3-9EC0-5C83C9838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3C3D0-39BC-47C6-A2D0-DC4DBD7C0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D19F5-54AB-4C67-A98E-CBBDD8ED4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4725-D8F1-414E-A75D-2140B65E9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823C6-23BC-4C32-B6E6-D39D5B60B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256FD-D503-451E-AAFB-8C6AF48D1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3D847-CBA4-48D5-9566-A63221B4D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3F540-7E4E-40D3-B361-99D18B24E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2AD52-932A-4362-B846-0AD369A9A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478A3F-9A4C-4EBB-8DE7-DA4059CA2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ADE13-EAB0-46E2-8840-433960454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F285C-EAEA-41BA-89FE-0F64A8FAD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A8DC7-2FE4-4497-B0AB-D14AFB1F8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7F612-A659-4F92-9C0D-52C1B0242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C4B7-5C3B-4F81-82FA-2731450C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D5BA5-BA97-48FD-B0BE-F53602C28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F4E5F-6ABD-4D4B-AF3C-C155C479A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77738-BD21-4571-9A58-F46DA299EF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E1C82-6FDB-4A04-BDE3-2181AB457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BCAB5-29AD-45F9-96E8-0112701F9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DD181-B4FA-4A09-B8B4-35DD36DC6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32885-B25F-4BA2-9C60-3B31C56EB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9514F2-E700-4A11-9061-BD6FBA3BB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1D0E7-9F9C-42C2-A26D-DA04723FB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5447-2079-42DB-B8EE-006E124A5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A9A8B-BA39-4722-A0AF-5DE538039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8B6E-6645-4832-99EF-BC2BAC54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9CAD-E9F0-46BE-BB87-608F16225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72D9-056B-4247-B68A-DE63CAF9A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9C9B-3F2E-4C51-B1AD-71A77B6D6C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8E17-78F7-462A-8991-AEAB6DB9528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C2E1-344B-4A79-B2AA-DD6890610C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20DD-E153-4413-A935-65198ED2ADE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1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1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21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71680" y="1571760"/>
            <a:ext cx="816444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1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0" y="714240"/>
          <a:ext cx="8642520" cy="6216840"/>
        </p:xfrm>
        <a:graphic>
          <a:graphicData uri="http://schemas.openxmlformats.org/drawingml/2006/table">
            <a:tbl>
              <a:tblPr/>
              <a:tblGrid>
                <a:gridCol w="1441440"/>
                <a:gridCol w="3959280"/>
                <a:gridCol w="1152360"/>
                <a:gridCol w="1076400"/>
                <a:gridCol w="101304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0111</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1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1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5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0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0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39,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7,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9,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3,0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8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2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59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5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0,4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aphicFrame>
        <p:nvGraphicFramePr>
          <p:cNvPr id="286" name=""/>
          <p:cNvGraphicFramePr/>
          <p:nvPr/>
        </p:nvGraphicFramePr>
        <p:xfrm>
          <a:off x="0" y="4429080"/>
          <a:ext cx="8642520" cy="304920"/>
        </p:xfrm>
        <a:graphic>
          <a:graphicData uri="http://schemas.openxmlformats.org/drawingml/2006/table">
            <a:tbl>
              <a:tblPr/>
              <a:tblGrid>
                <a:gridCol w="1441440"/>
                <a:gridCol w="3959280"/>
                <a:gridCol w="1152360"/>
                <a:gridCol w="1076400"/>
                <a:gridCol w="10130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1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ициативные платежи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21 год</a:t>
            </a:r>
            <a:endParaRPr b="1" lang="en-US" sz="4000" spc="-1" strike="noStrike">
              <a:solidFill>
                <a:srgbClr val="feec94"/>
              </a:solidFill>
              <a:latin typeface="Times New Roman"/>
            </a:endParaRPr>
          </a:p>
        </p:txBody>
      </p:sp>
      <p:sp>
        <p:nvSpPr>
          <p:cNvPr id="288"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4380,3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173,8 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72,46%</a:t>
            </a:r>
            <a:endParaRPr b="0" lang="en-US" sz="3200" spc="-1" strike="noStrike">
              <a:solidFill>
                <a:srgbClr val="ffffff"/>
              </a:solidFill>
              <a:latin typeface="Times New Roman"/>
            </a:endParaRPr>
          </a:p>
        </p:txBody>
      </p:sp>
      <p:pic>
        <p:nvPicPr>
          <p:cNvPr id="289"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3"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5"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21 году по расходам</a:t>
            </a:r>
            <a:endParaRPr b="1" lang="en-US" sz="2400" spc="-1" strike="noStrike">
              <a:solidFill>
                <a:srgbClr val="feec94"/>
              </a:solidFill>
              <a:latin typeface="Times New Roman"/>
            </a:endParaRPr>
          </a:p>
        </p:txBody>
      </p:sp>
      <p:graphicFrame>
        <p:nvGraphicFramePr>
          <p:cNvPr id="297"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1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1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156,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5,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9,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0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83,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8,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380,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17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2,4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1г  </a:t>
            </a:r>
            <a:br>
              <a:rPr sz="2400"/>
            </a:br>
            <a:endParaRPr b="1" lang="en-US" sz="2400" spc="-1" strike="noStrike">
              <a:solidFill>
                <a:srgbClr val="feec94"/>
              </a:solidFill>
              <a:latin typeface="Times New Roman"/>
            </a:endParaRPr>
          </a:p>
        </p:txBody>
      </p:sp>
      <p:graphicFrame>
        <p:nvGraphicFramePr>
          <p:cNvPr id="299"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21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902,5</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173,8</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21 год  сформирован  на основе основных направлений бюджетной и налоговой политики Борковского сельсовета  Суджанского района на 2021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1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1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21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21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21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20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2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34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02,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102,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73,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728,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00040" y="150012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Lenovo</cp:lastModifiedBy>
  <dcterms:modified xsi:type="dcterms:W3CDTF">2022-05-30T12:39:33Z</dcterms:modified>
  <cp:revision>324</cp:revision>
  <dc:subject/>
  <dc:title>Финансовое управление Администрации Каменского района</dc:title>
</cp:coreProperties>
</file>